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C1F98-EE71-40EE-8D2A-D24CD6B8B7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0A234-D22D-4892-8856-3707DDA801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1B82E-BE9B-49DE-91A1-B9B951E839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0A8A5-3A0F-4128-9333-7261FFF453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DB6F3-3C72-453F-ACAA-F010FB4C0E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D6229-F02F-4311-A51D-CA7FA091B0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4C513-BE24-426C-9E53-0EFC9AC712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BCB0B-12C7-4782-A62C-F5A16B6BF4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F0E87-D659-4E66-8C10-47E798797B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99B77-1BA8-44B4-8F7B-12C3A7A1B9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C336A-E4E9-48DD-9762-3210C0AA9F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07BE1-2A2B-4057-8F34-62BA8A68AE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19695-C5DB-464C-A615-F5403F2392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65D69-EA52-47E8-BDF0-6BFC073C7B06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224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 </a:t>
            </a:r>
            <a:br>
              <a:rPr sz="24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aring Into the Future</a:t>
            </a:r>
            <a:br>
              <a:rPr sz="18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figure Your Client For Versat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</a:rPr>
              <a:t>Client Preferences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9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ew -&gt; Prefer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s how the system is going to look to you each time you log 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or of each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 o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862520" y="2019240"/>
          <a:ext cx="3598920" cy="34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62520" y="2019240"/>
                    <a:ext cx="3598920" cy="34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User Fields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14000" y="1053720"/>
            <a:ext cx="63104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P Profiles User Fie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ew -&gt; Custom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izes the field id of the last tab on the TP Profi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258920" y="2809800"/>
          <a:ext cx="6459480" cy="32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809800"/>
                    <a:ext cx="6459480" cy="32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Installing a second WDI database and running it.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re going to review the changes needed to set up another WDI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an be used to set up other systems for Test, QA, Pr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uld consult the terms of your licensing con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ill sep through this process during the de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t following files: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e CONNECT TO EDIEC32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EDIEC2E to something meaningfull for th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bind\bindgrnt.f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grntec32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ix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loadcsd1.f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ediec32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ixf\loadec32.b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loadcsd1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csd4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loadcsd5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csd6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Follow the latest Readme.txt file through all csd commands.</a:t>
            </a:r>
            <a:br>
              <a:rPr sz="2000"/>
            </a:b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issuing the commands, make sure EDIEC32E is the same as the name you changed in the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create db 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 times in file  ALTR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nect Client to the new databas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 Client to the new database through View -&gt;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 plan on command files to use the new database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 plan in the wdi.properties file used by M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ther way you run, the database you connect to will be determined by the Plan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dhillary</cp:lastModifiedBy>
  <dcterms:modified xsi:type="dcterms:W3CDTF">2003-09-26T17:53:29Z</dcterms:modified>
  <cp:revision>857</cp:revision>
  <dc:subject/>
  <dc:title>IBM Software Group</dc:title>
</cp:coreProperties>
</file>