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152036-A13A-4D52-B6F0-69D35EA54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C6D4611-2F14-4D1E-B67D-FE5F28461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51191-7A73-4D82-B572-5122C0F2C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0CDA77-F15A-4D3A-86FC-51EC92DC72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C7BFFC-FE62-46C1-8A26-40239394A5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C4D0D6-D521-4E39-ADBD-6FC1D1A023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182A852-AF85-4AAD-B445-30120AAB19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62E5A-0B61-49A7-B200-4FE55212A2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D4A91-E864-43AB-B940-AD9E315F46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4A44049-8510-4BCA-BA52-1D1C61D32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7A43188-21B6-4B49-A2E9-DBCCB04EAF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C3FFED-D84F-4784-83D3-CB8F24A4F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D9E268-B334-4E07-8D1E-61144538B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F052B7-24D7-4607-9B01-6AC0E58DE6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5122-FEDF-4E60-A60B-CA2A360B95C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oval"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oval"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oval"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oval"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oval"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oval"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oval"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oval"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oval"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oval"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oval"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oval"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oval"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oval"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oval"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oval"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oval"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oval"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oval"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oval"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oval"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oval"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oval"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oval"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oval"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oval"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oval"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oval"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oval"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oval"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oval"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oval"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oval"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oval"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oval"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oval"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oval"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oval"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oval"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oval"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oval"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oval"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oval"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oval"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oval"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oval"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