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wmf" ContentType="image/x-wmf"/>
  <Override PartName="/ppt/media/image13.wmf" ContentType="image/x-wmf"/>
  <Override PartName="/ppt/media/image8.wmf" ContentType="image/x-wmf"/>
  <Override PartName="/ppt/media/image11.wmf" ContentType="image/x-wmf"/>
  <Override PartName="/ppt/media/image3.png" ContentType="image/png"/>
  <Override PartName="/ppt/media/image19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9.wmf" ContentType="image/x-wmf"/>
  <Override PartName="/ppt/media/image1.png" ContentType="image/png"/>
  <Override PartName="/ppt/media/image5.jpeg" ContentType="image/jpeg"/>
  <Override PartName="/ppt/media/image18.wmf" ContentType="image/x-wmf"/>
  <Override PartName="/ppt/media/image2.jpeg" ContentType="image/jpeg"/>
  <Override PartName="/ppt/media/image6.jpeg" ContentType="image/jpeg"/>
  <Override PartName="/ppt/media/image12.wmf" ContentType="image/x-wmf"/>
  <Override PartName="/ppt/media/image4.png" ContentType="image/png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937375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67FEE5-1E5F-41D2-8744-C11E5369E3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0A399-BC3C-4941-B17F-62C2E1D64C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20CC49-5353-4B10-A677-1534A38920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4E73D7-0C1F-49C1-A3CF-9935D4F254C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DAD3DC-A7F7-4667-A01E-5868867AC2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82F092-1B8D-4154-B655-ED1FB0A5F6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CFA323-1ED5-443A-889B-227DB2F445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9368F6-BA39-4FB9-9F99-B7EDA65C28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595845-E9FC-4C5D-9FCC-03344C4A5D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F0167C-525C-4382-A073-0F12589595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04CD9B-B2F7-4D26-9E38-DB720DD24C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2E008D-930A-4872-B8E0-377D66C433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532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37480" y="52560"/>
            <a:ext cx="371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  |  WebSphere softw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502320"/>
            <a:ext cx="59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Soaring into the Future – WebSphere Data Interchang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1"/>
          </p:nvPr>
        </p:nvSpPr>
        <p:spPr>
          <a:xfrm>
            <a:off x="154080" y="65019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0B88F-BA1A-4350-850C-1D6F00ABC2A7}" type="slidenum"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9315360" y="-133200"/>
            <a:ext cx="16290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any w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Background should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not be modifi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2273400" y="7067520"/>
            <a:ext cx="46908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itle/subtitle/confidentiality line: 10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 flipV="1">
            <a:off x="229068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V="1">
            <a:off x="761364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flipH="1">
            <a:off x="9175320" y="21096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 flipH="1">
            <a:off x="9175320" y="14860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-1131840" y="14760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 flipH="1">
            <a:off x="-1073520" y="1139760"/>
            <a:ext cx="1001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>
            <a:off x="-2335320" y="1014480"/>
            <a:ext cx="215928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heading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blue R120 | G137 | B251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Maximum length: 2 lin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body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1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quare bullet color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teal R045 | G182 | B179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text length: 5 principal po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-2335320" y="1584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4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7613640" y="7072200"/>
            <a:ext cx="17352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" name=""/>
          <p:cNvGrpSpPr/>
          <p:nvPr/>
        </p:nvGrpSpPr>
        <p:grpSpPr>
          <a:xfrm>
            <a:off x="311040" y="6889680"/>
            <a:ext cx="2119320" cy="671760"/>
            <a:chOff x="311040" y="6889680"/>
            <a:chExt cx="2119320" cy="671760"/>
          </a:xfrm>
        </p:grpSpPr>
        <p:sp>
          <p:nvSpPr>
            <p:cNvPr id="20" name=""/>
            <p:cNvSpPr/>
            <p:nvPr/>
          </p:nvSpPr>
          <p:spPr>
            <a:xfrm>
              <a:off x="311040" y="7067520"/>
              <a:ext cx="211932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tional slide number: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pt Arial Bold, whit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V="1">
              <a:off x="326880" y="6889680"/>
              <a:ext cx="1440" cy="3650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" name=""/>
          <p:cNvSpPr/>
          <p:nvPr/>
        </p:nvSpPr>
        <p:spPr>
          <a:xfrm>
            <a:off x="0" y="-647640"/>
            <a:ext cx="9631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"/>
          <p:cNvSpPr/>
          <p:nvPr/>
        </p:nvSpPr>
        <p:spPr>
          <a:xfrm flipH="1">
            <a:off x="-1263600" y="3189240"/>
            <a:ext cx="11923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1447920" y="141120"/>
            <a:ext cx="0" cy="23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>
            <a:off x="1447920" y="647856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0" y="6175440"/>
            <a:ext cx="1457280" cy="29988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" name="" descr=""/>
          <p:cNvPicPr/>
          <p:nvPr/>
        </p:nvPicPr>
        <p:blipFill>
          <a:blip r:embed="rId3"/>
          <a:stretch/>
        </p:blipFill>
        <p:spPr>
          <a:xfrm>
            <a:off x="1442880" y="6175440"/>
            <a:ext cx="7710480" cy="29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516744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7524720" y="687240"/>
            <a:ext cx="1001880" cy="4003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200664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762200" y="5491080"/>
            <a:ext cx="444168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86228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162160" y="7067520"/>
            <a:ext cx="46911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fidentiality/date line: 13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isclaimer information may also be appear in this area.  Place flush left, aligned at bottom, 8-10pt Arial 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9315360" y="630360"/>
            <a:ext cx="167184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 any way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-1131840" y="141768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-857520" y="2665440"/>
            <a:ext cx="785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217980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9175320" y="8938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-2335320" y="2540160"/>
            <a:ext cx="215928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Presentation title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length:  2 li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-2335320" y="128592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7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513560" y="7072200"/>
            <a:ext cx="18496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751356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0" y="-647640"/>
            <a:ext cx="5715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9315360" y="4008600"/>
            <a:ext cx="162900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r client presentations, client’s logo may go in this a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9175320" y="4341960"/>
            <a:ext cx="27468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6842160" y="5418000"/>
            <a:ext cx="1946160" cy="3524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0" y="4716360"/>
            <a:ext cx="471600" cy="45720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4716360"/>
            <a:ext cx="47160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936720" y="4716360"/>
            <a:ext cx="471240" cy="457200"/>
          </a:xfrm>
          <a:prstGeom prst="rect">
            <a:avLst/>
          </a:prstGeom>
          <a:solidFill>
            <a:srgbClr val="01a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405080" y="4716360"/>
            <a:ext cx="47124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1862280" y="4041720"/>
            <a:ext cx="2074680" cy="3016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5"/>
          <a:stretch/>
        </p:blipFill>
        <p:spPr>
          <a:xfrm>
            <a:off x="1863720" y="4711680"/>
            <a:ext cx="7294680" cy="45576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8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361960"/>
            <a:ext cx="72388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’t let this happen to you – Client Migration Tips</a:t>
            </a:r>
            <a:br>
              <a:rPr sz="2000"/>
            </a:br>
            <a:br>
              <a:rPr sz="2000"/>
            </a:b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Bettyann Johnsen</a:t>
            </a:r>
            <a:br>
              <a:rPr sz="1800"/>
            </a:b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I System Administrator, MetLif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072040" y="3705120"/>
            <a:ext cx="375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2.  Be Prepared and Have a Plan!</a:t>
            </a:r>
            <a:br>
              <a:rPr sz="2400"/>
            </a:b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     (Setting Up the Environment)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Life z/OS configu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B2 V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-User, Client-server, All DB2 for MV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B2Connect as gatew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5867280" y="990720"/>
            <a:ext cx="2751120" cy="3933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47355A-73CE-4E26-8212-60B481269F8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MetLife z/OS Configur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rating System:  z/OS 1.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rst upgraded to 64 bit process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1001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upgrade to z/0S 1.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ddleware:  DB2 Connect Version 7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B2 Version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C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ML Toolkit Version 1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0E8D15-D862-4C08-940F-0C7CA31DF90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MetLife Client-Server Configur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380880" y="2743200"/>
            <a:ext cx="1981440" cy="914400"/>
            <a:chOff x="380880" y="2743200"/>
            <a:chExt cx="1981440" cy="914400"/>
          </a:xfrm>
        </p:grpSpPr>
        <p:sp>
          <p:nvSpPr>
            <p:cNvPr id="172" name=""/>
            <p:cNvSpPr/>
            <p:nvPr/>
          </p:nvSpPr>
          <p:spPr>
            <a:xfrm>
              <a:off x="380880" y="2743200"/>
              <a:ext cx="1981440" cy="9144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80880" y="2895840"/>
              <a:ext cx="198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DataInterchange Clien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4" name=""/>
          <p:cNvSpPr/>
          <p:nvPr/>
        </p:nvSpPr>
        <p:spPr>
          <a:xfrm>
            <a:off x="228600" y="4648320"/>
            <a:ext cx="1143000" cy="914400"/>
          </a:xfrm>
          <a:prstGeom prst="flowChartMagneticDisk">
            <a:avLst/>
          </a:prstGeom>
          <a:solidFill>
            <a:srgbClr val="7889fb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676520" y="4648320"/>
            <a:ext cx="1143000" cy="914400"/>
          </a:xfrm>
          <a:prstGeom prst="flowChartMagneticDisk">
            <a:avLst/>
          </a:prstGeom>
          <a:solidFill>
            <a:srgbClr val="7889fb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85800" y="380988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133720" y="380988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590920" y="342900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200400"/>
            <a:ext cx="167616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B2 Connec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095880" y="838080"/>
            <a:ext cx="2819520" cy="3886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553080" y="1219320"/>
            <a:ext cx="2133720" cy="642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aInterchang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os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238880" y="1981080"/>
            <a:ext cx="1676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SO Attachmen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162920" y="198108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629400" y="3962520"/>
            <a:ext cx="1828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unTime Databas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781680" y="49528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VS or z/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257800" y="261936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iddleware Link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438280" y="2971800"/>
            <a:ext cx="2438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DBC Link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62120" y="4038480"/>
            <a:ext cx="243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DBC Link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362320" y="4038480"/>
            <a:ext cx="243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DBC Link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562720"/>
            <a:ext cx="1523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fi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atabas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523880" y="5562720"/>
            <a:ext cx="1524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ustTim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atabas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858000" y="2895480"/>
            <a:ext cx="1143000" cy="914400"/>
          </a:xfrm>
          <a:prstGeom prst="flowChartMagneticDisk">
            <a:avLst/>
          </a:prstGeom>
          <a:solidFill>
            <a:srgbClr val="7889fb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6400" y="342900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1A8749-8436-4765-9AF2-89CFB03FCC4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Middleware:  DB2Connect Version 7.2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040" y="1676160"/>
            <a:ext cx="662940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l time updating to the host in client-server mode via ODBC li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eal for multi-user environment working with DataInterchange Client concurren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eater “up”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PU utilization is bet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6248520" y="914400"/>
            <a:ext cx="2023920" cy="2997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81EBBD-2B19-4971-A4F6-13B51DEEC57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RACF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264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B2 invokes RACF to determine access to DataInterch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RANT user privileges to the DB2/MVS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vide SELECT, INSERT, UPDATE and DELETE privileges on subset of tables in our test environment ON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ame for RunTime and CustTime databases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up by DataInterchange enviro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viously had multiple RACF profiles defined by project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solidation of profiles to user’s actio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515E38-A30D-44E0-AAC7-F3D9676C7BE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XML Toolkit 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12760" y="1776240"/>
            <a:ext cx="452592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 Client 3.1 - requires XML Toolkit version 1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 upward compatibility with later versions of the toolki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tLife already upgraded to version 1.2 of the XML Toolkit. Therefore not able to use the XML Toolkit at this tim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4952880" y="1676520"/>
            <a:ext cx="3762360" cy="3514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AC7E1E-4220-4082-B7E9-6B03576D8C4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3.  Be Adaptable</a:t>
            </a:r>
            <a:br>
              <a:rPr sz="2400"/>
            </a:b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     (DI Host to DI Client Migration)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502920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1400" indent="-2214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ortant differences between host and client forma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8280" indent="-27720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B2 tables EDIPSDI and EDITPCM reside in both RunTime and CustTime databa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1400" indent="-2214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ortant to note that once converted to the Client, a transaction must be maintained on the 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1400" indent="-2214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ing convention changes for DataInterchange Client 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1400" indent="-2214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 an independent browser-based t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8280" indent="-27720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ed DI Client 3.1 installed on PC or lapt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6019920" y="2057400"/>
            <a:ext cx="2673360" cy="3753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223442-1342-497D-8DE2-76C63513446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RUNTIME vs. CUSTTIME database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112760" y="1776240"/>
            <a:ext cx="60501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we create the  CUSTTIME client format database in a separate database from the RUNTIME database on the hos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cerned with migration to DI 4.1 and single database struc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tually, only logical groups of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ept in one database but used separate high level qualifie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6172200" y="2971800"/>
            <a:ext cx="2571840" cy="2629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6217A2-12A3-441C-98AC-E651810629D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DB2 Connect Logi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Interchange Client login requires two entries of TSO id and password due to the two databases being connected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UNTIME as MVS host datab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STTIME as client format datab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ist the temptation to hard-code the TSO id and password into the ODBC Sou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6F4D80-770D-49E9-B7E6-BE45EF8B16B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4.  Assess The Risk and Be Proactive</a:t>
            </a:r>
            <a:br>
              <a:rPr sz="2400"/>
            </a:b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     (DI Client Deployment)</a:t>
            </a:r>
            <a:br>
              <a:rPr sz="2400"/>
            </a:b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528804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ual login using DI Client 3.1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1125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eans the “cache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1125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SO passwords updated or changed on the mainframe are properly reflected within the ODBC Sou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d two complete DataInterchange Client 3.1 subsystems within our lab environments for testing of PTF’s and regular RSU mainten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6248520" y="1219320"/>
            <a:ext cx="2409840" cy="2562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2D11CC-CE83-4BDF-BBF8-12CA778D5E6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1400" indent="-221400">
              <a:spcBef>
                <a:spcPts val="1001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1 U.S. Life Insurer  -  $2.4 trillion life insurance in-forc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as of 12/31/0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1400" indent="-221400">
              <a:spcBef>
                <a:spcPts val="1125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rgest non-medical provider of institutional employee bene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1400" indent="-221400">
              <a:spcBef>
                <a:spcPts val="1125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ide benefits to 37 million employees and family members through their plan sponsors and 88 of Fortune 100 Compan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1400" indent="-221400">
              <a:spcBef>
                <a:spcPts val="1125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nked #1 in most group product areas - life, dental, auto and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e, and long-term care; and the #1 commercial dental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rr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1400" indent="-221400">
              <a:spcBef>
                <a:spcPts val="99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stomers 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8280" indent="-277200">
              <a:spcBef>
                <a:spcPts val="876"/>
              </a:spcBef>
              <a:spcAft>
                <a:spcPts val="264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.S. -   approximately 12 million individuals in the U.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8280" indent="-277200">
              <a:spcBef>
                <a:spcPts val="876"/>
              </a:spcBef>
              <a:spcAft>
                <a:spcPts val="264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national - 8 million customers in 12 count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1400" indent="-221400">
              <a:spcBef>
                <a:spcPts val="1125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ed on NYSE - April 2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3276720" y="838080"/>
            <a:ext cx="2124000" cy="498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FC9C0E-226A-4DCB-8E14-8E873FA003A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onversion Issue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ided end-users wi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 Client 3.1 environ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i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bility to convert existing Maps, as need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ce converted, must be updated and maintained in DI Cli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218033-7611-47B7-A911-D94358DAC8A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5.  Enjoy The Ride </a:t>
            </a:r>
            <a:br>
              <a:rPr sz="2400"/>
            </a:b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(Future Direction)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112760" y="1776240"/>
            <a:ext cx="544032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re we are go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z/OS Server Pack 1.4 include WebSphere Data Interchange V3.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house and being installed in one of the lab environ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Challen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ML Transformation using WDI 3.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5638680" y="1295280"/>
            <a:ext cx="3100680" cy="4191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63293B-F51C-48CF-9B76-4D6DB773F13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Summary</a:t>
            </a: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now your enviro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 prepared and have a pla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 adap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es the risk and be proa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joy the ride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6191EB-5ECA-45C1-B4BC-FB6A1745FA6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Don’t Let This Happen To You</a:t>
            </a:r>
            <a:br>
              <a:rPr sz="2400"/>
            </a:b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- DI Client 3.1 Migration Tip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ttyann Johns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Lif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johnsen@metlif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2160E0-F394-4B9C-B3A1-1F6709E6B0D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12400" indent="0">
              <a:lnSpc>
                <a:spcPct val="11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ducts and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.S. Insurance and Financial Services busin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04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ndividual Busines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nancial planning, life insurance, annuities, long-term care, disability, mutual funds and securi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804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nstitutional Busines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fe insurance, retirement and savings, group non-medical health (e.g., short- and long-term disability, long-term care, dental) and voluntary benefi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national Operation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fe insurance, accident and health, annuities, retirement and savings, automobile and homeowner’s insuranc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set Management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tual funds, separate accounts and real estate produ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uto &amp; Home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tomobile, homeowner’s, boat, excess liability and miscellaneous personal lines property and casualty insur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insurance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fe reinsurance, facultative and automatic, as well as financial reinsur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3200400" y="685800"/>
            <a:ext cx="2124000" cy="498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BB4AAC-1FF4-407B-8AF2-73044F074F4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Don’t Let This Happen To You - Client Migration Tip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Aft>
                <a:spcPts val="22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ent Migration Overvie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22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ting up the enviro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22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 Host to DI Client Mi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22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 Client Deploy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22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ture Dir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6F2A78-88D5-4049-95D9-7374FF7C356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2514600" y="685800"/>
            <a:ext cx="4038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2454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889fb"/>
                </a:solidFill>
                <a:latin typeface="Arial"/>
              </a:rPr>
              <a:t>Survival Tip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502320" y="2863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2971800" y="685800"/>
            <a:ext cx="2743200" cy="495288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3124080" cy="43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ent Migration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ting up the Enviro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 Host to DI Client Mi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 Client Deploy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ture Dir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34120" y="1523880"/>
            <a:ext cx="533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867280" y="129528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now your Environm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334120" y="2362320"/>
            <a:ext cx="533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213372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 Prepared and Have a Plan!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334120" y="3489480"/>
            <a:ext cx="533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867280" y="326088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 Adaptab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334120" y="4343400"/>
            <a:ext cx="533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867280" y="4114800"/>
            <a:ext cx="281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ess the Risk and Be Proactiv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791320" y="5181480"/>
            <a:ext cx="373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joy the Ride.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334120" y="5334120"/>
            <a:ext cx="533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3A9693-8EA5-40B5-B097-9BDB1FA6594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1.  Know Your Environment</a:t>
            </a:r>
            <a:br>
              <a:rPr sz="2400"/>
            </a:b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     (Client Migration Overview)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Aft>
                <a:spcPts val="22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y use the Clien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22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re we star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22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re we are toda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6019920" y="1219320"/>
            <a:ext cx="1857240" cy="399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2EBEA7-1DF2-4626-A8F8-A0643941EE0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Why Use The Client?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Aft>
                <a:spcPts val="22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PAA Compli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22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se of 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22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loit computing power of the mainfr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22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ility to have multiple systems up at the same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22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ML trans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22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ition MetLife for the move to Web Sphere Data Interchange 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7010280" y="533520"/>
            <a:ext cx="1295640" cy="3933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9C127F-1C21-4399-831A-C174A08C51F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Where We Started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612612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Aft>
                <a:spcPts val="22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S/390 MVS System 2.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22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B2 Version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 DB2 Subsystems configu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 T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 Produ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22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Interchange 2.1 - Host on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need of several levels of maintenance and PTF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4876920" y="609480"/>
            <a:ext cx="4016160" cy="3944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448217-2938-427F-93B8-EFC82A15D1F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Where We Are Today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Aft>
                <a:spcPts val="22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/OS MVS System - 01.02.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22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B2 Version 7 environmen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 DB2 Sub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 Lab environ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 T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 Produ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22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Interchange 3.1 - on Host and 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rrent on all maintenance and PTF’s to d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3962520" y="685800"/>
            <a:ext cx="4219560" cy="3951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1FF986-21DF-4DE6-994E-8D73F40B663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01T13:49:33Z</dcterms:created>
  <dc:creator>MetLife</dc:creator>
  <dc:description/>
  <dc:language>en-US</dc:language>
  <cp:lastModifiedBy>IBM_USER</cp:lastModifiedBy>
  <cp:lastPrinted>2003-08-19T18:25:27Z</cp:lastPrinted>
  <dcterms:modified xsi:type="dcterms:W3CDTF">2003-09-17T17:35:07Z</dcterms:modified>
  <cp:revision>54</cp:revision>
  <dc:subject/>
  <dc:title>WebSphere Data Interchange  Soaring Into the Future</dc:title>
</cp:coreProperties>
</file>