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60584-B9EE-420D-8F9E-E013910C4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A1EC7-817E-4685-BB00-DA091E320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1D3A1-40F6-4122-B38E-F00910BDA8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E2780-D746-424D-B4B7-10FB7D271A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1B1B2-EA37-41A0-B97C-A988EDEDA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AD1AE-A52A-4498-8B24-6AD9CB266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8B67D-06F8-4A91-A7F0-F100FA8EA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612A-4CB8-40D5-B455-4BB67A354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0E723-A6CA-44A7-9A8E-E06E8EFC0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1DDF-666A-437C-AACB-0DA31B7E9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460F5-84C6-422F-B53E-6B72D134A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7E489-7514-4579-9633-4A8D536E0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FE28-8876-4909-9BB3-150F7F35F7C9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P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General Discussion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ssion will be a general discussion on HIPAA and how you are implementing your HIPAA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special case, lets talk about it and help you find an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for others affected by HIPAA, just as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3T22:24:15Z</dcterms:modified>
  <cp:revision>856</cp:revision>
  <dc:subject/>
  <dc:title>IBM Software Group</dc:title>
</cp:coreProperties>
</file>