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3.png" ContentType="image/png"/>
  <Override PartName="/ppt/media/image9.wmf" ContentType="image/x-wmf"/>
  <Override PartName="/ppt/media/image14.png" ContentType="image/png"/>
  <Override PartName="/ppt/media/image5.jpeg" ContentType="image/jpeg"/>
  <Override PartName="/ppt/media/image8.jpeg" ContentType="image/jpeg"/>
  <Override PartName="/ppt/media/image4.png" ContentType="image/png"/>
  <Override PartName="/ppt/media/image25.jpeg" ContentType="image/jpeg"/>
  <Override PartName="/ppt/media/image22.jpeg" ContentType="image/jpeg"/>
  <Override PartName="/ppt/media/image3.png" ContentType="image/png"/>
  <Override PartName="/ppt/media/image26.png" ContentType="image/png"/>
  <Override PartName="/ppt/media/image21.jpeg" ContentType="image/jpeg"/>
  <Override PartName="/ppt/media/image16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7.png" ContentType="image/png"/>
  <Override PartName="/ppt/media/image24.jpeg" ContentType="image/jpeg"/>
  <Override PartName="/ppt/media/image15.png" ContentType="image/pn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B85F9-F6BA-474A-8F5E-CC2C2103FA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What is RFI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ront-end data capture (i.e., Auto-ID)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k of it as 3 technologies in 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337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hort range wireless communication system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(e.g., 8-15 ft rang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337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able memory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(like a floppy disk)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 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ition/motion det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nabler for the EPC 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nt-end architect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ed mounted rea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forkl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of fixed mount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lvl="1" marL="45720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nk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nti-collis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 a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ltra-fast printer que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cessing multiple docu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ed or wireless Ethernet is used to connect readers to back-end systems.  Readers have IP addres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hierarch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llet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main fol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ub-fol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em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ub-sub-fol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gregation is needed for dealing with RF unfriendly materials because one cannot read through metals &amp; liqu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-aggregation for mixed pallet loads will be one of our most challenging implementation iss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6400" rIns="86400" tIns="43200" bIns="432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ven with slap &amp; ship, we need readers 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rite EPCs to tags and to verify operability (after applic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gile readers will minimize our ris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ab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ty and Hostile 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er data entry err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10 msec per read; 10x’s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40C1D-F1E5-4816-B774-DBB04C95DB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D6C49-2DCA-4B20-B471-F51CBF6F82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6A55B-2E87-4191-8A00-258E44F47D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492B7-5722-4119-9D91-DE328063EE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581D2-B65C-4839-9D32-C604C8F9D9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86162-83CC-480B-B58D-C653DF24D0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1F8E9-EE1A-45E5-9652-079417B58D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FCA38-2125-4C47-8023-78A57A9FC2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46350-B129-4347-AC06-BCB551C76A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2EAA8-212A-4D19-8237-2C4617E471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DB200-F550-474F-A8F9-2C5CCBE67F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2E2A7-317F-40F6-A378-DB6B0654E6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CEDBB-3A13-43AD-B277-C0747EED0672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vid L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raft Food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"/>
          <p:cNvGrpSpPr/>
          <p:nvPr/>
        </p:nvGrpSpPr>
        <p:grpSpPr>
          <a:xfrm>
            <a:off x="590400" y="1901880"/>
            <a:ext cx="8088480" cy="3521160"/>
            <a:chOff x="590400" y="1901880"/>
            <a:chExt cx="8088480" cy="3521160"/>
          </a:xfrm>
        </p:grpSpPr>
        <p:sp>
          <p:nvSpPr>
            <p:cNvPr id="322" name=""/>
            <p:cNvSpPr/>
            <p:nvPr/>
          </p:nvSpPr>
          <p:spPr>
            <a:xfrm>
              <a:off x="590400" y="1901880"/>
              <a:ext cx="8088480" cy="352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873720" y="2180520"/>
              <a:ext cx="7652520" cy="3196080"/>
              <a:chOff x="873720" y="2180520"/>
              <a:chExt cx="7652520" cy="3196080"/>
            </a:xfrm>
          </p:grpSpPr>
          <p:pic>
            <p:nvPicPr>
              <p:cNvPr id="324" name="aboutthetech_efficiency" descr=""/>
              <p:cNvPicPr/>
              <p:nvPr/>
            </p:nvPicPr>
            <p:blipFill>
              <a:blip r:embed="rId1"/>
              <a:stretch/>
            </p:blipFill>
            <p:spPr>
              <a:xfrm>
                <a:off x="873720" y="2204280"/>
                <a:ext cx="3389760" cy="314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5" name="aboutthetech_efficiencyinv" descr=""/>
              <p:cNvPicPr/>
              <p:nvPr/>
            </p:nvPicPr>
            <p:blipFill>
              <a:blip r:embed="rId2"/>
              <a:stretch/>
            </p:blipFill>
            <p:spPr>
              <a:xfrm>
                <a:off x="5136480" y="2180520"/>
                <a:ext cx="3389760" cy="319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6" name=""/>
              <p:cNvSpPr/>
              <p:nvPr/>
            </p:nvSpPr>
            <p:spPr>
              <a:xfrm>
                <a:off x="4371480" y="3037320"/>
                <a:ext cx="605160" cy="153036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7889fb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7" name=""/>
          <p:cNvSpPr/>
          <p:nvPr/>
        </p:nvSpPr>
        <p:spPr>
          <a:xfrm>
            <a:off x="817920" y="5573880"/>
            <a:ext cx="281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stomer Warehou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088320" y="5573880"/>
            <a:ext cx="152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re Doc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04920" y="552600"/>
            <a:ext cx="8610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PC Vision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“Readers and Transmitters” are used to upd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cation of product in the supply network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433800" y="368280"/>
            <a:ext cx="66272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PC Visi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At the point of purchase retail inventory is upda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manufacturers receive notice for replenishmen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351000" y="1673280"/>
            <a:ext cx="8450280" cy="4226040"/>
            <a:chOff x="351000" y="1673280"/>
            <a:chExt cx="8450280" cy="4226040"/>
          </a:xfrm>
        </p:grpSpPr>
        <p:sp>
          <p:nvSpPr>
            <p:cNvPr id="332" name=""/>
            <p:cNvSpPr/>
            <p:nvPr/>
          </p:nvSpPr>
          <p:spPr>
            <a:xfrm>
              <a:off x="351000" y="1673280"/>
              <a:ext cx="8450280" cy="4226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583920" y="1952640"/>
              <a:ext cx="7994880" cy="3252600"/>
              <a:chOff x="583920" y="1952640"/>
              <a:chExt cx="7994880" cy="3252600"/>
            </a:xfrm>
          </p:grpSpPr>
          <p:pic>
            <p:nvPicPr>
              <p:cNvPr id="334" name="aboutthetech_overstocking" descr=""/>
              <p:cNvPicPr/>
              <p:nvPr/>
            </p:nvPicPr>
            <p:blipFill>
              <a:blip r:embed="rId1"/>
              <a:stretch/>
            </p:blipFill>
            <p:spPr>
              <a:xfrm>
                <a:off x="583920" y="1952640"/>
                <a:ext cx="3544560" cy="322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5" name="aboutthetech_consumer" descr=""/>
              <p:cNvPicPr/>
              <p:nvPr/>
            </p:nvPicPr>
            <p:blipFill>
              <a:blip r:embed="rId2"/>
              <a:stretch/>
            </p:blipFill>
            <p:spPr>
              <a:xfrm>
                <a:off x="5044680" y="1952640"/>
                <a:ext cx="3534120" cy="325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6" name=""/>
              <p:cNvSpPr/>
              <p:nvPr/>
            </p:nvSpPr>
            <p:spPr>
              <a:xfrm>
                <a:off x="4246560" y="2879280"/>
                <a:ext cx="631080" cy="154440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7889fb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7" name=""/>
            <p:cNvSpPr/>
            <p:nvPr/>
          </p:nvSpPr>
          <p:spPr>
            <a:xfrm>
              <a:off x="1506960" y="5279760"/>
              <a:ext cx="156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tail Shel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632560" y="5270400"/>
              <a:ext cx="230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sumer Pantr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66200" y="650880"/>
            <a:ext cx="9115560" cy="4492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rminology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95360" y="1290240"/>
            <a:ext cx="8648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rmAutofit/>
          </a:bodyPr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adio Frequency Identification (RFID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a short-range wirel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-ID technology based on radio wave transmi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utomatic Identification (Auto-ID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data capture technolo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eliminate the need for manual entry of info via a keyp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lectronic Product Code (EP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a numerical coding scheme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quely identifying distribution objects (e.g., pallets, cases, items, etc)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PC Netw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system of Auto-ID readers linked to the intern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racking EPC-labeled distribution o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bject Name Servi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When a reader picks up an EPC a computer will need  to find information about the produ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262080" y="584280"/>
            <a:ext cx="646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ing/Contrasting UHF &amp; HF Ta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31640" y="1384200"/>
          <a:ext cx="6603840" cy="4114800"/>
        </p:xfrm>
        <a:graphic>
          <a:graphicData uri="http://schemas.openxmlformats.org/drawingml/2006/table">
            <a:tbl>
              <a:tblPr/>
              <a:tblGrid>
                <a:gridCol w="3476520"/>
                <a:gridCol w="3127320"/>
              </a:tblGrid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HF (915MHz or 868MHz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89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F (13.56MHz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89fb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mall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igg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eap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re expensiv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aster (5-10ms read time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lower (50-100ms read time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tricted in some countri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lobally availab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ss penetration of meta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tter penetration of meta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horter read r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nger read r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q hopping to minimize interfere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 frequency hopp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astic electronics are not fast enough for UHF tag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astic electronics are fast enough for HF tag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7494480" y="1263600"/>
            <a:ext cx="1282680" cy="24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ake away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HF tags will be used for pallets &amp; cas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stic electronic HF tags will be used for item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990720" y="1650960"/>
            <a:ext cx="6973920" cy="334800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785880" y="803160"/>
            <a:ext cx="6451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1400" bIns="41400" anchor="t">
            <a:noAutofit/>
          </a:bodyPr>
          <a:p>
            <a:pPr marL="361800" indent="-361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ers Of An RFID Ta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1"/>
          <a:srcRect l="12189" t="31255" r="11252" b="12502"/>
          <a:stretch/>
        </p:blipFill>
        <p:spPr>
          <a:xfrm>
            <a:off x="1049400" y="1282680"/>
            <a:ext cx="7248600" cy="34416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920880" y="552600"/>
            <a:ext cx="4965480" cy="7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C:  96-Bit Ver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071720" y="4815000"/>
            <a:ext cx="6744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s a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unique identifi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or license plate) for every distribution obje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igned to be scaleable and extensi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s as a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ke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 a back-end 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powerful than a UPC, but can still track objects at the SKU-lev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406440" y="711360"/>
            <a:ext cx="530856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RFID Work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7390800" y="2293920"/>
            <a:ext cx="1326960" cy="1228320"/>
            <a:chOff x="7390800" y="2293920"/>
            <a:chExt cx="1326960" cy="1228320"/>
          </a:xfrm>
        </p:grpSpPr>
        <p:sp>
          <p:nvSpPr>
            <p:cNvPr id="351" name=""/>
            <p:cNvSpPr/>
            <p:nvPr/>
          </p:nvSpPr>
          <p:spPr>
            <a:xfrm flipH="1" rot="16200000">
              <a:off x="7060320" y="2634840"/>
              <a:ext cx="1198440" cy="538200"/>
            </a:xfrm>
            <a:custGeom>
              <a:avLst/>
              <a:gdLst/>
              <a:ahLst/>
              <a:rect l="l" t="t" r="r" b="b"/>
              <a:pathLst>
                <a:path w="1615" h="337">
                  <a:moveTo>
                    <a:pt x="1055" y="43"/>
                  </a:moveTo>
                  <a:lnTo>
                    <a:pt x="1060" y="46"/>
                  </a:lnTo>
                  <a:lnTo>
                    <a:pt x="1069" y="47"/>
                  </a:lnTo>
                  <a:lnTo>
                    <a:pt x="1079" y="48"/>
                  </a:lnTo>
                  <a:lnTo>
                    <a:pt x="1086" y="52"/>
                  </a:lnTo>
                  <a:lnTo>
                    <a:pt x="1102" y="56"/>
                  </a:lnTo>
                  <a:lnTo>
                    <a:pt x="1119" y="60"/>
                  </a:lnTo>
                  <a:lnTo>
                    <a:pt x="1137" y="63"/>
                  </a:lnTo>
                  <a:lnTo>
                    <a:pt x="1154" y="68"/>
                  </a:lnTo>
                  <a:lnTo>
                    <a:pt x="1171" y="71"/>
                  </a:lnTo>
                  <a:lnTo>
                    <a:pt x="1187" y="74"/>
                  </a:lnTo>
                  <a:lnTo>
                    <a:pt x="1204" y="77"/>
                  </a:lnTo>
                  <a:lnTo>
                    <a:pt x="1221" y="81"/>
                  </a:lnTo>
                  <a:lnTo>
                    <a:pt x="1236" y="85"/>
                  </a:lnTo>
                  <a:lnTo>
                    <a:pt x="1251" y="89"/>
                  </a:lnTo>
                  <a:lnTo>
                    <a:pt x="1266" y="92"/>
                  </a:lnTo>
                  <a:lnTo>
                    <a:pt x="1282" y="96"/>
                  </a:lnTo>
                  <a:lnTo>
                    <a:pt x="1296" y="99"/>
                  </a:lnTo>
                  <a:lnTo>
                    <a:pt x="1312" y="103"/>
                  </a:lnTo>
                  <a:lnTo>
                    <a:pt x="1326" y="106"/>
                  </a:lnTo>
                  <a:lnTo>
                    <a:pt x="1342" y="110"/>
                  </a:lnTo>
                  <a:lnTo>
                    <a:pt x="1359" y="114"/>
                  </a:lnTo>
                  <a:lnTo>
                    <a:pt x="1376" y="117"/>
                  </a:lnTo>
                  <a:lnTo>
                    <a:pt x="1394" y="121"/>
                  </a:lnTo>
                  <a:lnTo>
                    <a:pt x="1409" y="126"/>
                  </a:lnTo>
                  <a:lnTo>
                    <a:pt x="1427" y="130"/>
                  </a:lnTo>
                  <a:lnTo>
                    <a:pt x="1444" y="133"/>
                  </a:lnTo>
                  <a:lnTo>
                    <a:pt x="1461" y="138"/>
                  </a:lnTo>
                  <a:lnTo>
                    <a:pt x="1478" y="142"/>
                  </a:lnTo>
                  <a:lnTo>
                    <a:pt x="1496" y="146"/>
                  </a:lnTo>
                  <a:lnTo>
                    <a:pt x="1513" y="149"/>
                  </a:lnTo>
                  <a:lnTo>
                    <a:pt x="1530" y="154"/>
                  </a:lnTo>
                  <a:lnTo>
                    <a:pt x="1547" y="158"/>
                  </a:lnTo>
                  <a:lnTo>
                    <a:pt x="1563" y="161"/>
                  </a:lnTo>
                  <a:lnTo>
                    <a:pt x="1580" y="166"/>
                  </a:lnTo>
                  <a:lnTo>
                    <a:pt x="1598" y="169"/>
                  </a:lnTo>
                  <a:lnTo>
                    <a:pt x="1615" y="173"/>
                  </a:lnTo>
                  <a:lnTo>
                    <a:pt x="770" y="337"/>
                  </a:lnTo>
                  <a:lnTo>
                    <a:pt x="0" y="137"/>
                  </a:lnTo>
                  <a:lnTo>
                    <a:pt x="598" y="39"/>
                  </a:lnTo>
                  <a:lnTo>
                    <a:pt x="614" y="36"/>
                  </a:lnTo>
                  <a:lnTo>
                    <a:pt x="630" y="34"/>
                  </a:lnTo>
                  <a:lnTo>
                    <a:pt x="645" y="32"/>
                  </a:lnTo>
                  <a:lnTo>
                    <a:pt x="661" y="30"/>
                  </a:lnTo>
                  <a:lnTo>
                    <a:pt x="678" y="27"/>
                  </a:lnTo>
                  <a:lnTo>
                    <a:pt x="694" y="25"/>
                  </a:lnTo>
                  <a:lnTo>
                    <a:pt x="710" y="22"/>
                  </a:lnTo>
                  <a:lnTo>
                    <a:pt x="726" y="20"/>
                  </a:lnTo>
                  <a:lnTo>
                    <a:pt x="742" y="17"/>
                  </a:lnTo>
                  <a:lnTo>
                    <a:pt x="757" y="15"/>
                  </a:lnTo>
                  <a:lnTo>
                    <a:pt x="773" y="13"/>
                  </a:lnTo>
                  <a:lnTo>
                    <a:pt x="790" y="11"/>
                  </a:lnTo>
                  <a:lnTo>
                    <a:pt x="806" y="7"/>
                  </a:lnTo>
                  <a:lnTo>
                    <a:pt x="822" y="5"/>
                  </a:lnTo>
                  <a:lnTo>
                    <a:pt x="838" y="2"/>
                  </a:lnTo>
                  <a:lnTo>
                    <a:pt x="854" y="0"/>
                  </a:lnTo>
                  <a:lnTo>
                    <a:pt x="878" y="6"/>
                  </a:lnTo>
                  <a:lnTo>
                    <a:pt x="904" y="12"/>
                  </a:lnTo>
                  <a:lnTo>
                    <a:pt x="928" y="17"/>
                  </a:lnTo>
                  <a:lnTo>
                    <a:pt x="953" y="22"/>
                  </a:lnTo>
                  <a:lnTo>
                    <a:pt x="979" y="28"/>
                  </a:lnTo>
                  <a:lnTo>
                    <a:pt x="1003" y="33"/>
                  </a:lnTo>
                  <a:lnTo>
                    <a:pt x="1029" y="38"/>
                  </a:lnTo>
                  <a:lnTo>
                    <a:pt x="1055" y="4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 rot="16200000">
              <a:off x="7880040" y="2032560"/>
              <a:ext cx="576000" cy="1098360"/>
            </a:xfrm>
            <a:custGeom>
              <a:avLst/>
              <a:gdLst/>
              <a:ahLst/>
              <a:rect l="l" t="t" r="r" b="b"/>
              <a:pathLst>
                <a:path w="775" h="693">
                  <a:moveTo>
                    <a:pt x="769" y="693"/>
                  </a:moveTo>
                  <a:lnTo>
                    <a:pt x="751" y="687"/>
                  </a:lnTo>
                  <a:lnTo>
                    <a:pt x="734" y="680"/>
                  </a:lnTo>
                  <a:lnTo>
                    <a:pt x="715" y="675"/>
                  </a:lnTo>
                  <a:lnTo>
                    <a:pt x="696" y="668"/>
                  </a:lnTo>
                  <a:lnTo>
                    <a:pt x="678" y="662"/>
                  </a:lnTo>
                  <a:lnTo>
                    <a:pt x="659" y="657"/>
                  </a:lnTo>
                  <a:lnTo>
                    <a:pt x="640" y="650"/>
                  </a:lnTo>
                  <a:lnTo>
                    <a:pt x="622" y="645"/>
                  </a:lnTo>
                  <a:lnTo>
                    <a:pt x="601" y="638"/>
                  </a:lnTo>
                  <a:lnTo>
                    <a:pt x="583" y="633"/>
                  </a:lnTo>
                  <a:lnTo>
                    <a:pt x="564" y="627"/>
                  </a:lnTo>
                  <a:lnTo>
                    <a:pt x="545" y="621"/>
                  </a:lnTo>
                  <a:lnTo>
                    <a:pt x="527" y="616"/>
                  </a:lnTo>
                  <a:lnTo>
                    <a:pt x="507" y="610"/>
                  </a:lnTo>
                  <a:lnTo>
                    <a:pt x="488" y="604"/>
                  </a:lnTo>
                  <a:lnTo>
                    <a:pt x="469" y="598"/>
                  </a:lnTo>
                  <a:lnTo>
                    <a:pt x="441" y="589"/>
                  </a:lnTo>
                  <a:lnTo>
                    <a:pt x="412" y="579"/>
                  </a:lnTo>
                  <a:lnTo>
                    <a:pt x="383" y="569"/>
                  </a:lnTo>
                  <a:lnTo>
                    <a:pt x="354" y="560"/>
                  </a:lnTo>
                  <a:lnTo>
                    <a:pt x="326" y="551"/>
                  </a:lnTo>
                  <a:lnTo>
                    <a:pt x="296" y="541"/>
                  </a:lnTo>
                  <a:lnTo>
                    <a:pt x="267" y="533"/>
                  </a:lnTo>
                  <a:lnTo>
                    <a:pt x="238" y="524"/>
                  </a:lnTo>
                  <a:lnTo>
                    <a:pt x="208" y="516"/>
                  </a:lnTo>
                  <a:lnTo>
                    <a:pt x="179" y="507"/>
                  </a:lnTo>
                  <a:lnTo>
                    <a:pt x="150" y="498"/>
                  </a:lnTo>
                  <a:lnTo>
                    <a:pt x="120" y="489"/>
                  </a:lnTo>
                  <a:lnTo>
                    <a:pt x="92" y="480"/>
                  </a:lnTo>
                  <a:lnTo>
                    <a:pt x="63" y="471"/>
                  </a:lnTo>
                  <a:lnTo>
                    <a:pt x="33" y="463"/>
                  </a:lnTo>
                  <a:lnTo>
                    <a:pt x="4" y="453"/>
                  </a:lnTo>
                  <a:lnTo>
                    <a:pt x="0" y="341"/>
                  </a:lnTo>
                  <a:lnTo>
                    <a:pt x="0" y="228"/>
                  </a:lnTo>
                  <a:lnTo>
                    <a:pt x="0" y="114"/>
                  </a:lnTo>
                  <a:lnTo>
                    <a:pt x="0" y="0"/>
                  </a:lnTo>
                  <a:lnTo>
                    <a:pt x="775" y="202"/>
                  </a:lnTo>
                  <a:lnTo>
                    <a:pt x="769" y="69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rot="16200000">
              <a:off x="7857000" y="2679120"/>
              <a:ext cx="644400" cy="1041480"/>
            </a:xfrm>
            <a:custGeom>
              <a:avLst/>
              <a:gdLst/>
              <a:ahLst/>
              <a:rect l="l" t="t" r="r" b="b"/>
              <a:pathLst>
                <a:path w="869" h="652">
                  <a:moveTo>
                    <a:pt x="869" y="14"/>
                  </a:moveTo>
                  <a:lnTo>
                    <a:pt x="866" y="124"/>
                  </a:lnTo>
                  <a:lnTo>
                    <a:pt x="865" y="232"/>
                  </a:lnTo>
                  <a:lnTo>
                    <a:pt x="864" y="338"/>
                  </a:lnTo>
                  <a:lnTo>
                    <a:pt x="864" y="443"/>
                  </a:lnTo>
                  <a:lnTo>
                    <a:pt x="843" y="449"/>
                  </a:lnTo>
                  <a:lnTo>
                    <a:pt x="823" y="454"/>
                  </a:lnTo>
                  <a:lnTo>
                    <a:pt x="805" y="459"/>
                  </a:lnTo>
                  <a:lnTo>
                    <a:pt x="785" y="464"/>
                  </a:lnTo>
                  <a:lnTo>
                    <a:pt x="764" y="468"/>
                  </a:lnTo>
                  <a:lnTo>
                    <a:pt x="744" y="474"/>
                  </a:lnTo>
                  <a:lnTo>
                    <a:pt x="724" y="478"/>
                  </a:lnTo>
                  <a:lnTo>
                    <a:pt x="704" y="482"/>
                  </a:lnTo>
                  <a:lnTo>
                    <a:pt x="684" y="488"/>
                  </a:lnTo>
                  <a:lnTo>
                    <a:pt x="664" y="492"/>
                  </a:lnTo>
                  <a:lnTo>
                    <a:pt x="644" y="496"/>
                  </a:lnTo>
                  <a:lnTo>
                    <a:pt x="624" y="502"/>
                  </a:lnTo>
                  <a:lnTo>
                    <a:pt x="604" y="506"/>
                  </a:lnTo>
                  <a:lnTo>
                    <a:pt x="583" y="511"/>
                  </a:lnTo>
                  <a:lnTo>
                    <a:pt x="563" y="516"/>
                  </a:lnTo>
                  <a:lnTo>
                    <a:pt x="543" y="521"/>
                  </a:lnTo>
                  <a:lnTo>
                    <a:pt x="532" y="525"/>
                  </a:lnTo>
                  <a:lnTo>
                    <a:pt x="519" y="529"/>
                  </a:lnTo>
                  <a:lnTo>
                    <a:pt x="506" y="532"/>
                  </a:lnTo>
                  <a:lnTo>
                    <a:pt x="494" y="534"/>
                  </a:lnTo>
                  <a:lnTo>
                    <a:pt x="481" y="537"/>
                  </a:lnTo>
                  <a:lnTo>
                    <a:pt x="469" y="540"/>
                  </a:lnTo>
                  <a:lnTo>
                    <a:pt x="456" y="544"/>
                  </a:lnTo>
                  <a:lnTo>
                    <a:pt x="444" y="547"/>
                  </a:lnTo>
                  <a:lnTo>
                    <a:pt x="423" y="551"/>
                  </a:lnTo>
                  <a:lnTo>
                    <a:pt x="401" y="555"/>
                  </a:lnTo>
                  <a:lnTo>
                    <a:pt x="381" y="560"/>
                  </a:lnTo>
                  <a:lnTo>
                    <a:pt x="359" y="565"/>
                  </a:lnTo>
                  <a:lnTo>
                    <a:pt x="339" y="570"/>
                  </a:lnTo>
                  <a:lnTo>
                    <a:pt x="319" y="575"/>
                  </a:lnTo>
                  <a:lnTo>
                    <a:pt x="298" y="580"/>
                  </a:lnTo>
                  <a:lnTo>
                    <a:pt x="278" y="586"/>
                  </a:lnTo>
                  <a:lnTo>
                    <a:pt x="257" y="591"/>
                  </a:lnTo>
                  <a:lnTo>
                    <a:pt x="237" y="596"/>
                  </a:lnTo>
                  <a:lnTo>
                    <a:pt x="216" y="602"/>
                  </a:lnTo>
                  <a:lnTo>
                    <a:pt x="196" y="607"/>
                  </a:lnTo>
                  <a:lnTo>
                    <a:pt x="176" y="611"/>
                  </a:lnTo>
                  <a:lnTo>
                    <a:pt x="154" y="617"/>
                  </a:lnTo>
                  <a:lnTo>
                    <a:pt x="134" y="621"/>
                  </a:lnTo>
                  <a:lnTo>
                    <a:pt x="112" y="625"/>
                  </a:lnTo>
                  <a:lnTo>
                    <a:pt x="98" y="629"/>
                  </a:lnTo>
                  <a:lnTo>
                    <a:pt x="85" y="632"/>
                  </a:lnTo>
                  <a:lnTo>
                    <a:pt x="71" y="635"/>
                  </a:lnTo>
                  <a:lnTo>
                    <a:pt x="56" y="638"/>
                  </a:lnTo>
                  <a:lnTo>
                    <a:pt x="42" y="643"/>
                  </a:lnTo>
                  <a:lnTo>
                    <a:pt x="29" y="646"/>
                  </a:lnTo>
                  <a:lnTo>
                    <a:pt x="15" y="649"/>
                  </a:lnTo>
                  <a:lnTo>
                    <a:pt x="0" y="652"/>
                  </a:lnTo>
                  <a:lnTo>
                    <a:pt x="0" y="216"/>
                  </a:lnTo>
                  <a:lnTo>
                    <a:pt x="5" y="186"/>
                  </a:lnTo>
                  <a:lnTo>
                    <a:pt x="33" y="180"/>
                  </a:lnTo>
                  <a:lnTo>
                    <a:pt x="61" y="174"/>
                  </a:lnTo>
                  <a:lnTo>
                    <a:pt x="88" y="168"/>
                  </a:lnTo>
                  <a:lnTo>
                    <a:pt x="117" y="162"/>
                  </a:lnTo>
                  <a:lnTo>
                    <a:pt x="144" y="156"/>
                  </a:lnTo>
                  <a:lnTo>
                    <a:pt x="171" y="150"/>
                  </a:lnTo>
                  <a:lnTo>
                    <a:pt x="199" y="143"/>
                  </a:lnTo>
                  <a:lnTo>
                    <a:pt x="224" y="138"/>
                  </a:lnTo>
                  <a:lnTo>
                    <a:pt x="252" y="131"/>
                  </a:lnTo>
                  <a:lnTo>
                    <a:pt x="279" y="126"/>
                  </a:lnTo>
                  <a:lnTo>
                    <a:pt x="306" y="120"/>
                  </a:lnTo>
                  <a:lnTo>
                    <a:pt x="332" y="113"/>
                  </a:lnTo>
                  <a:lnTo>
                    <a:pt x="359" y="108"/>
                  </a:lnTo>
                  <a:lnTo>
                    <a:pt x="387" y="102"/>
                  </a:lnTo>
                  <a:lnTo>
                    <a:pt x="413" y="96"/>
                  </a:lnTo>
                  <a:lnTo>
                    <a:pt x="440" y="91"/>
                  </a:lnTo>
                  <a:lnTo>
                    <a:pt x="467" y="85"/>
                  </a:lnTo>
                  <a:lnTo>
                    <a:pt x="493" y="79"/>
                  </a:lnTo>
                  <a:lnTo>
                    <a:pt x="520" y="73"/>
                  </a:lnTo>
                  <a:lnTo>
                    <a:pt x="546" y="68"/>
                  </a:lnTo>
                  <a:lnTo>
                    <a:pt x="573" y="63"/>
                  </a:lnTo>
                  <a:lnTo>
                    <a:pt x="599" y="56"/>
                  </a:lnTo>
                  <a:lnTo>
                    <a:pt x="625" y="51"/>
                  </a:lnTo>
                  <a:lnTo>
                    <a:pt x="652" y="45"/>
                  </a:lnTo>
                  <a:lnTo>
                    <a:pt x="678" y="40"/>
                  </a:lnTo>
                  <a:lnTo>
                    <a:pt x="706" y="33"/>
                  </a:lnTo>
                  <a:lnTo>
                    <a:pt x="731" y="28"/>
                  </a:lnTo>
                  <a:lnTo>
                    <a:pt x="757" y="23"/>
                  </a:lnTo>
                  <a:lnTo>
                    <a:pt x="785" y="17"/>
                  </a:lnTo>
                  <a:lnTo>
                    <a:pt x="810" y="11"/>
                  </a:lnTo>
                  <a:lnTo>
                    <a:pt x="838" y="6"/>
                  </a:lnTo>
                  <a:lnTo>
                    <a:pt x="864" y="0"/>
                  </a:lnTo>
                  <a:lnTo>
                    <a:pt x="869" y="14"/>
                  </a:lnTo>
                  <a:close/>
                </a:path>
              </a:pathLst>
            </a:custGeom>
            <a:solidFill>
              <a:srgbClr val="afaf5e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083800" y="2662200"/>
              <a:ext cx="323640" cy="1263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172720" y="2682720"/>
              <a:ext cx="150480" cy="70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7578720" y="1295280"/>
            <a:ext cx="1046160" cy="871560"/>
          </a:xfrm>
          <a:prstGeom prst="cube">
            <a:avLst>
              <a:gd name="adj" fmla="val 7282"/>
            </a:avLst>
          </a:prstGeom>
          <a:gradFill rotWithShape="0">
            <a:gsLst>
              <a:gs pos="0">
                <a:srgbClr val="c0c0c0"/>
              </a:gs>
              <a:gs pos="100000">
                <a:srgbClr val="e8e8e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620120" y="1486080"/>
            <a:ext cx="912600" cy="307080"/>
          </a:xfrm>
          <a:prstGeom prst="rect">
            <a:avLst/>
          </a:prstGeom>
          <a:solidFill>
            <a:srgbClr val="cc99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ad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7050240" y="635040"/>
            <a:ext cx="2085840" cy="2088360"/>
            <a:chOff x="7050240" y="635040"/>
            <a:chExt cx="2085840" cy="2088360"/>
          </a:xfrm>
        </p:grpSpPr>
        <p:sp>
          <p:nvSpPr>
            <p:cNvPr id="359" name=""/>
            <p:cNvSpPr/>
            <p:nvPr/>
          </p:nvSpPr>
          <p:spPr>
            <a:xfrm flipV="1" rot="18960000">
              <a:off x="7692120" y="1254960"/>
              <a:ext cx="816120" cy="87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9"/>
                  </a:moveTo>
                  <a:arcTo wR="10800" hR="10800" stAng="-10786854" swAng="53726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9"/>
                  </a:moveTo>
                  <a:arcTo wR="10800" hR="10800" stAng="-10786854" swAng="5372617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 rot="18960000">
              <a:off x="7589880" y="1146240"/>
              <a:ext cx="1022040" cy="108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8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8598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 rot="18960000">
              <a:off x="7484040" y="1032480"/>
              <a:ext cx="1225080" cy="130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2"/>
                  </a:moveTo>
                  <a:arcTo wR="10800" hR="10800" stAng="-10791196" swAng="538171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2"/>
                  </a:moveTo>
                  <a:arcTo wR="10800" hR="10800" stAng="-10791196" swAng="5381712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 rot="18960000">
              <a:off x="7378920" y="916560"/>
              <a:ext cx="1428120" cy="152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70" swAng="538433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70" swAng="5384333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533520" y="1452600"/>
            <a:ext cx="8610480" cy="37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FID readers emit EM wav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 waves wirelessly power up nearby tag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 waves also carry encoded reader comman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s in close proximity respond to reader comman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ers can read multiple tags at o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property is called anti-colli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 spec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200 tag reads per seco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ers filter tag data dumping relevant info to a back-en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for storage &amp; data process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Case%20with%20RFID" descr=""/>
          <p:cNvPicPr/>
          <p:nvPr/>
        </p:nvPicPr>
        <p:blipFill>
          <a:blip r:embed="rId1"/>
          <a:stretch/>
        </p:blipFill>
        <p:spPr>
          <a:xfrm>
            <a:off x="592200" y="2487600"/>
            <a:ext cx="2189160" cy="1219320"/>
          </a:xfrm>
          <a:prstGeom prst="rect">
            <a:avLst/>
          </a:prstGeom>
          <a:ln w="0">
            <a:noFill/>
          </a:ln>
        </p:spPr>
      </p:pic>
      <p:pic>
        <p:nvPicPr>
          <p:cNvPr id="365" name="Kraft%20item%20with%20RFID" descr=""/>
          <p:cNvPicPr/>
          <p:nvPr/>
        </p:nvPicPr>
        <p:blipFill>
          <a:blip r:embed="rId2"/>
          <a:stretch/>
        </p:blipFill>
        <p:spPr>
          <a:xfrm>
            <a:off x="361800" y="1352520"/>
            <a:ext cx="1140120" cy="1279440"/>
          </a:xfrm>
          <a:prstGeom prst="rect">
            <a:avLst/>
          </a:prstGeom>
          <a:ln w="0">
            <a:noFill/>
          </a:ln>
        </p:spPr>
      </p:pic>
      <p:pic>
        <p:nvPicPr>
          <p:cNvPr id="366" name="RF-Pallet2" descr=""/>
          <p:cNvPicPr/>
          <p:nvPr/>
        </p:nvPicPr>
        <p:blipFill>
          <a:blip r:embed="rId3"/>
          <a:stretch/>
        </p:blipFill>
        <p:spPr>
          <a:xfrm>
            <a:off x="380880" y="3878280"/>
            <a:ext cx="4457880" cy="26240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298440" y="674640"/>
            <a:ext cx="834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gregation Is Critical For EPC/RF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713040" y="2225520"/>
            <a:ext cx="517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ase aggreg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linking item EPCs to their case EPC on a back-end server.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649680" y="3710160"/>
            <a:ext cx="5170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allet aggreg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linking case EPCs to their pallet EPC on a back-end server.   When at least one tag affiliated with the pallet is read, all other tags affiliated with the pallet can be inferred from a back-end database look-u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209680" y="2416320"/>
            <a:ext cx="1136880" cy="639720"/>
          </a:xfrm>
          <a:prstGeom prst="line">
            <a:avLst/>
          </a:prstGeom>
          <a:ln w="38160">
            <a:solidFill>
              <a:srgbClr val="c523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 flipV="1">
            <a:off x="1476000" y="1638000"/>
            <a:ext cx="1870200" cy="777960"/>
          </a:xfrm>
          <a:prstGeom prst="line">
            <a:avLst/>
          </a:prstGeom>
          <a:ln w="38160">
            <a:solidFill>
              <a:srgbClr val="c523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 flipV="1">
            <a:off x="2101680" y="3246120"/>
            <a:ext cx="1525680" cy="762120"/>
          </a:xfrm>
          <a:prstGeom prst="line">
            <a:avLst/>
          </a:prstGeom>
          <a:ln w="38160">
            <a:solidFill>
              <a:srgbClr val="c523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2569680" y="3989520"/>
            <a:ext cx="1057320" cy="2146320"/>
          </a:xfrm>
          <a:prstGeom prst="line">
            <a:avLst/>
          </a:prstGeom>
          <a:ln w="38160">
            <a:solidFill>
              <a:srgbClr val="c523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272880" y="731880"/>
            <a:ext cx="649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stomized Reader Solutions Are Requi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5" name="175AuroraDryDCDoorways" descr=""/>
          <p:cNvPicPr/>
          <p:nvPr/>
        </p:nvPicPr>
        <p:blipFill>
          <a:blip r:embed="rId1"/>
          <a:stretch/>
        </p:blipFill>
        <p:spPr>
          <a:xfrm>
            <a:off x="3276720" y="3765600"/>
            <a:ext cx="2590560" cy="1689120"/>
          </a:xfrm>
          <a:prstGeom prst="rect">
            <a:avLst/>
          </a:prstGeom>
          <a:ln w="0">
            <a:noFill/>
          </a:ln>
        </p:spPr>
      </p:pic>
      <p:pic>
        <p:nvPicPr>
          <p:cNvPr id="376" name="AutoShrinkWrapper1" descr=""/>
          <p:cNvPicPr/>
          <p:nvPr/>
        </p:nvPicPr>
        <p:blipFill>
          <a:blip r:embed="rId2"/>
          <a:stretch/>
        </p:blipFill>
        <p:spPr>
          <a:xfrm>
            <a:off x="3238560" y="1390680"/>
            <a:ext cx="2666880" cy="1738440"/>
          </a:xfrm>
          <a:prstGeom prst="rect">
            <a:avLst/>
          </a:prstGeom>
          <a:ln w="0">
            <a:noFill/>
          </a:ln>
        </p:spPr>
      </p:pic>
      <p:pic>
        <p:nvPicPr>
          <p:cNvPr id="377" name="IsolatedMintPickBay4OdorTempIsolation" descr=""/>
          <p:cNvPicPr/>
          <p:nvPr/>
        </p:nvPicPr>
        <p:blipFill>
          <a:blip r:embed="rId3"/>
          <a:stretch/>
        </p:blipFill>
        <p:spPr>
          <a:xfrm>
            <a:off x="457200" y="3765600"/>
            <a:ext cx="2590920" cy="1689120"/>
          </a:xfrm>
          <a:prstGeom prst="rect">
            <a:avLst/>
          </a:prstGeom>
          <a:ln w="0">
            <a:noFill/>
          </a:ln>
        </p:spPr>
      </p:pic>
      <p:pic>
        <p:nvPicPr>
          <p:cNvPr id="378" name="conveyor" descr=""/>
          <p:cNvPicPr/>
          <p:nvPr/>
        </p:nvPicPr>
        <p:blipFill>
          <a:blip r:embed="rId4"/>
          <a:stretch/>
        </p:blipFill>
        <p:spPr>
          <a:xfrm>
            <a:off x="468360" y="1365120"/>
            <a:ext cx="2529000" cy="178920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693720" y="3139920"/>
            <a:ext cx="211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Case convey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788280" y="3139920"/>
            <a:ext cx="156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Palletiz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515640" y="3139920"/>
            <a:ext cx="205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Smart forklif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806640" y="5538960"/>
            <a:ext cx="152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. Doorway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912600" y="5524560"/>
            <a:ext cx="149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Pick-bay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737040" y="5524560"/>
            <a:ext cx="161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. Handhel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5" name="Handheld%20RFID%20Reader4" descr=""/>
          <p:cNvPicPr/>
          <p:nvPr/>
        </p:nvPicPr>
        <p:blipFill>
          <a:blip r:embed="rId5"/>
          <a:stretch/>
        </p:blipFill>
        <p:spPr>
          <a:xfrm>
            <a:off x="6669000" y="3684600"/>
            <a:ext cx="1636920" cy="1649520"/>
          </a:xfrm>
          <a:prstGeom prst="rect">
            <a:avLst/>
          </a:prstGeom>
          <a:ln w="0">
            <a:noFill/>
          </a:ln>
        </p:spPr>
      </p:pic>
      <p:pic>
        <p:nvPicPr>
          <p:cNvPr id="386" name="forklift1" descr=""/>
          <p:cNvPicPr/>
          <p:nvPr/>
        </p:nvPicPr>
        <p:blipFill>
          <a:blip r:embed="rId6"/>
          <a:stretch/>
        </p:blipFill>
        <p:spPr>
          <a:xfrm>
            <a:off x="6126120" y="1328760"/>
            <a:ext cx="248436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60520" y="60336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Case…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41440" y="128088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trategy is not about RFID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sure product is where it’s suppose to be for the     least cos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are you going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 trace 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 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chandizing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are moving from a push environment to a p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 – demand driven supply ch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366920" y="1992240"/>
            <a:ext cx="6555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al*Mart to Top 100 Supplier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ag 100% Cases &amp; Pallets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20480" y="1643040"/>
            <a:ext cx="8723160" cy="4492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ateline: June, 2003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-438120" y="585720"/>
            <a:ext cx="860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usiness case for Retailers is compel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0680" y="1217520"/>
            <a:ext cx="818820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productivity wi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ss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pture of inventory movements – the elusive case at store leve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d inventory accuracy with capture of ALL inventory movements – backroom to selling floor – total automated replenish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inventory levels from improved inventory visibil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d customer service through reduced out of stocks by maintaining selling floor perpetual inventory (3-4% lost due to lost sale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shrinkage could result in 1-7% saving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sales from improved in stock posi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0" y="501120"/>
            <a:ext cx="777240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other Retailers will not be far behin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20560" y="1066680"/>
            <a:ext cx="86234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.S. Department of Defe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’ DoD RFID Policy due July ’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D working with Wal*M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ense Commissary Agency (DeCA) designing pilot for Q3’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ro Group – beyond the Future St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rmany only - 10 DC’s, 280 st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v’04 pilot - to be defi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rget – a measured pace we li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onal deployment in Spring, 2005 (possibly T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ring 2007 – “Accept RFID from all vendors as a supplement to the current barcode marking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bertson’s – another ‘Top 100’ procla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ril 2005 pilot (possibly T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tegory rollout, food lower prio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304920" y="604800"/>
            <a:ext cx="860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liers’ business cases differ great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06360" y="1212840"/>
            <a:ext cx="859464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value products (electronics, pharmaceuticals) have a stronger cas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g costs represent a smaller percent of gross marg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ject to greater levels of counterfeit, shrink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risk products, highly regulated products (pharmaceuticals) require tighter control of the supply chai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rger suppliers with greater scale and historical productivity have less incremental productivity to ga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case focused on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in-stock position at retai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unsaleables through improved inventory contro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product diversion through trace ability of individual cas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inventory levels from improved inventory visibil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ginal productivity gai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8800" y="592200"/>
            <a:ext cx="82454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*Mart has taken the rein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0" y="1199880"/>
            <a:ext cx="8623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e, 2003 – “The shot heard ‘round the RFID worl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 100 Suppliers to tag pallets and cases by January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Suppliers to tag pallets and cases by December 2006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ing 100 laboratories around the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ing the bar at 100% particip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ing to solve for the issu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lier Collaboration Board (early adopters, including Kraf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 I (2004) - start up of three DC’s, 150 st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 II (2005) – expansion yet to be 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60520" y="6980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s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22360" y="1471320"/>
            <a:ext cx="82627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echnology standards have not been established for tags, data or applications but great progress is being mad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ublic policy (privacy, workplace safety) issues are unresolved and could impact consumer acceptan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icing curve dynamics for tags and readers are unpredictab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echnology does not currently perform sufficiently well to support elements of business case (i.e. case receiving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igh level support and resource commitment needed to establish company-wide EPC strategy and global roadma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racking products as they cross physical boundaries between trading partner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120" y="447840"/>
            <a:ext cx="833148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Just when you think you have it solved  ….  </a:t>
            </a:r>
            <a:endParaRPr b="0" lang="en-US" sz="27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20560" y="1072800"/>
            <a:ext cx="862344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ing resource commitment to customer pi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ing retailer interest, SKU expansion, location expa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distribution flow of cases into customer locations (DPS, 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rty sourc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ving for unfriendly products and packa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quids absorb RF, metals/foils reflect, humidity imp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ng technology commi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rchasing scale, strategic partnership opportun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cing financial investments with no visibility of a benefit 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ificant infrastructure investment ($10’s of MM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2200" y="116496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7080" indent="-217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C/RFID has the potential to be a transformational technology that change our expectations of supply chain performa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7080" indent="-217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ionalizing this opportunity requires the integration of business process change and technological developm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7080" indent="-217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ady progress will be required to validate the business proposition as we align the costs and benefits with our custome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7080" indent="-217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make EPC/RFID a reality, we need to develop open, inclusively defined technology, data and application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1066680" y="1120680"/>
            <a:ext cx="7010280" cy="4985640"/>
            <a:chOff x="1066680" y="1120680"/>
            <a:chExt cx="7010280" cy="4985640"/>
          </a:xfrm>
        </p:grpSpPr>
        <p:sp>
          <p:nvSpPr>
            <p:cNvPr id="145" name=""/>
            <p:cNvSpPr/>
            <p:nvPr/>
          </p:nvSpPr>
          <p:spPr>
            <a:xfrm>
              <a:off x="1066680" y="1120680"/>
              <a:ext cx="70102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1066680" y="1120680"/>
              <a:ext cx="5594400" cy="4985640"/>
              <a:chOff x="1066680" y="1120680"/>
              <a:chExt cx="5594400" cy="4985640"/>
            </a:xfrm>
          </p:grpSpPr>
          <p:sp>
            <p:nvSpPr>
              <p:cNvPr id="147" name=""/>
              <p:cNvSpPr/>
              <p:nvPr/>
            </p:nvSpPr>
            <p:spPr>
              <a:xfrm>
                <a:off x="1066680" y="1120680"/>
                <a:ext cx="42861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8" name=""/>
              <p:cNvGrpSpPr/>
              <p:nvPr/>
            </p:nvGrpSpPr>
            <p:grpSpPr>
              <a:xfrm>
                <a:off x="1066680" y="1120680"/>
                <a:ext cx="5594400" cy="4985640"/>
                <a:chOff x="1066680" y="1120680"/>
                <a:chExt cx="5594400" cy="498564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1066680" y="1120680"/>
                  <a:ext cx="4268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0" name=""/>
                <p:cNvGrpSpPr/>
                <p:nvPr/>
              </p:nvGrpSpPr>
              <p:grpSpPr>
                <a:xfrm>
                  <a:off x="1066680" y="1120680"/>
                  <a:ext cx="5594400" cy="4985640"/>
                  <a:chOff x="1066680" y="1120680"/>
                  <a:chExt cx="5594400" cy="4985640"/>
                </a:xfrm>
              </p:grpSpPr>
              <p:sp>
                <p:nvSpPr>
                  <p:cNvPr id="151" name=""/>
                  <p:cNvSpPr/>
                  <p:nvPr/>
                </p:nvSpPr>
                <p:spPr>
                  <a:xfrm>
                    <a:off x="1066680" y="1120680"/>
                    <a:ext cx="4205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1066680" y="1120680"/>
                    <a:ext cx="5594400" cy="498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  </a:t>
                    </a:r>
                    <a:r>
                      <a:rPr b="0" lang="en-US" sz="249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 </a:t>
                    </a: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                                                                    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153" name="ghostrider3" descr="View From Top"/>
          <p:cNvPicPr/>
          <p:nvPr/>
        </p:nvPicPr>
        <p:blipFill>
          <a:blip r:embed="rId1"/>
          <a:stretch/>
        </p:blipFill>
        <p:spPr>
          <a:xfrm>
            <a:off x="76320" y="63360"/>
            <a:ext cx="8978760" cy="677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17440" y="647640"/>
            <a:ext cx="860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1200" y="1544760"/>
            <a:ext cx="8188200" cy="45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FID 10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usiness Cas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C Roadma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sight on RF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FID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FID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c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308320" y="1920960"/>
            <a:ext cx="409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RFID 101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39200" y="477720"/>
            <a:ext cx="9115560" cy="4492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PC / RFID and Bar Cod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41920" y="2259000"/>
            <a:ext cx="514800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05000"/>
              </a:lnSpc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ssive data capture (no human intervention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optical line-of-sight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ility to read multiple tags simultaneous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ialization of product code en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105000"/>
              </a:lnSpc>
              <a:spcBef>
                <a:spcPts val="437"/>
              </a:spcBef>
              <a:spcAft>
                <a:spcPts val="264"/>
              </a:spcAft>
              <a:buClr>
                <a:srgbClr val="ffff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 and trace – specific case identification for precise recall capab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105000"/>
              </a:lnSpc>
              <a:spcBef>
                <a:spcPts val="437"/>
              </a:spcBef>
              <a:spcAft>
                <a:spcPts val="264"/>
              </a:spcAft>
              <a:buClr>
                <a:srgbClr val="ffff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hentication – identify counterfe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ture tags may have ability to update cont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105000"/>
              </a:lnSpc>
              <a:spcBef>
                <a:spcPts val="437"/>
              </a:spcBef>
              <a:spcAft>
                <a:spcPts val="264"/>
              </a:spcAft>
              <a:buClr>
                <a:srgbClr val="ffff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ltiple write capability – update data along the supply chain, providing a his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105000"/>
              </a:lnSpc>
              <a:spcBef>
                <a:spcPts val="437"/>
              </a:spcBef>
              <a:spcAft>
                <a:spcPts val="264"/>
              </a:spcAft>
              <a:buClr>
                <a:srgbClr val="ffff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hanced functionality – environmental information  (i.e. temperature tracking, physical abuse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0">
              <a:lnSpc>
                <a:spcPct val="105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98320" y="5595840"/>
            <a:ext cx="819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r codes and RFID tags will co-exist for a long time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788760" y="1039680"/>
            <a:ext cx="1221480" cy="1063800"/>
            <a:chOff x="788760" y="1039680"/>
            <a:chExt cx="1221480" cy="1063800"/>
          </a:xfrm>
        </p:grpSpPr>
        <p:grpSp>
          <p:nvGrpSpPr>
            <p:cNvPr id="163" name=""/>
            <p:cNvGrpSpPr/>
            <p:nvPr/>
          </p:nvGrpSpPr>
          <p:grpSpPr>
            <a:xfrm>
              <a:off x="839880" y="1039680"/>
              <a:ext cx="1119600" cy="934560"/>
              <a:chOff x="839880" y="1039680"/>
              <a:chExt cx="1119600" cy="934560"/>
            </a:xfrm>
          </p:grpSpPr>
          <p:sp>
            <p:nvSpPr>
              <p:cNvPr id="164" name=""/>
              <p:cNvSpPr/>
              <p:nvPr/>
            </p:nvSpPr>
            <p:spPr>
              <a:xfrm>
                <a:off x="839880" y="1039680"/>
                <a:ext cx="2916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0640" y="1039680"/>
                <a:ext cx="5076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011960" y="1039680"/>
                <a:ext cx="291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0897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1275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16568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2038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75788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7960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296000" y="1039680"/>
                <a:ext cx="1692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3543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893600" y="1039680"/>
                <a:ext cx="1728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942200" y="1039680"/>
                <a:ext cx="1728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594080" y="1039680"/>
                <a:ext cx="1620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642320" y="1039680"/>
                <a:ext cx="1584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6963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39248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464120" y="1039680"/>
                <a:ext cx="3024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5152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942200" y="1039680"/>
                <a:ext cx="1728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893600" y="1039680"/>
                <a:ext cx="1728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7960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75788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642320" y="1039680"/>
                <a:ext cx="1584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3543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16568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890640" y="1039680"/>
                <a:ext cx="5076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39880" y="1039680"/>
                <a:ext cx="2916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011960" y="1039680"/>
                <a:ext cx="291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0897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1275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2038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296000" y="1039680"/>
                <a:ext cx="1692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39248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464120" y="1039680"/>
                <a:ext cx="3024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5152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594080" y="1039680"/>
                <a:ext cx="1620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6963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788760" y="1796400"/>
              <a:ext cx="122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9000 0732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03" name="RFID%20tag5" descr=""/>
          <p:cNvPicPr/>
          <p:nvPr/>
        </p:nvPicPr>
        <p:blipFill>
          <a:blip r:embed="rId1"/>
          <a:stretch/>
        </p:blipFill>
        <p:spPr>
          <a:xfrm>
            <a:off x="4422600" y="1058760"/>
            <a:ext cx="1079640" cy="10717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351000" y="2097000"/>
            <a:ext cx="3116160" cy="21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expensiv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alled infrastructu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capture signal – it ‘beeps when it reads’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-433440" y="746280"/>
            <a:ext cx="77724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ology Deployment (Generi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7559640" y="2239920"/>
            <a:ext cx="650880" cy="1455840"/>
          </a:xfrm>
          <a:custGeom>
            <a:avLst/>
            <a:gdLst>
              <a:gd name="textAreaLeft" fmla="*/ 87120 w 650880"/>
              <a:gd name="textAreaRight" fmla="*/ 563760 w 650880"/>
              <a:gd name="textAreaTop" fmla="*/ 254880 h 1455840"/>
              <a:gd name="textAreaBottom" fmla="*/ 1055880 h 145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786720" y="3333600"/>
            <a:ext cx="984240" cy="822600"/>
          </a:xfrm>
          <a:prstGeom prst="cube">
            <a:avLst>
              <a:gd name="adj" fmla="val 7282"/>
            </a:avLst>
          </a:prstGeom>
          <a:gradFill rotWithShape="0">
            <a:gsLst>
              <a:gs pos="0">
                <a:srgbClr val="c0c0c0"/>
              </a:gs>
              <a:gs pos="100000">
                <a:srgbClr val="e8e8e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981000" y="5063400"/>
            <a:ext cx="4062600" cy="669960"/>
          </a:xfrm>
          <a:prstGeom prst="parallelogram">
            <a:avLst>
              <a:gd name="adj" fmla="val 21168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1085040" y="3203640"/>
            <a:ext cx="2049480" cy="888840"/>
          </a:xfrm>
          <a:prstGeom prst="flowChartMagneticDrum">
            <a:avLst/>
          </a:prstGeom>
          <a:gradFill rotWithShape="0">
            <a:gsLst>
              <a:gs pos="0">
                <a:srgbClr val="d18213"/>
              </a:gs>
              <a:gs pos="100000">
                <a:srgbClr val="f9f1e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62120" y="2328840"/>
            <a:ext cx="801720" cy="2221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854360" y="1569960"/>
            <a:ext cx="372960" cy="123840"/>
          </a:xfrm>
          <a:prstGeom prst="ellipse">
            <a:avLst/>
          </a:prstGeom>
          <a:solidFill>
            <a:srgbClr val="2db6b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27160" y="1814400"/>
            <a:ext cx="0" cy="393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43000" y="2660760"/>
            <a:ext cx="0" cy="393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65280" y="2338560"/>
            <a:ext cx="825480" cy="30708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65200" y="1566720"/>
            <a:ext cx="954000" cy="307080"/>
          </a:xfrm>
          <a:prstGeom prst="rect">
            <a:avLst/>
          </a:prstGeom>
          <a:solidFill>
            <a:srgbClr val="99cc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ip/Ta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662120" y="3119400"/>
            <a:ext cx="801720" cy="222120"/>
            <a:chOff x="1662120" y="3119400"/>
            <a:chExt cx="801720" cy="222120"/>
          </a:xfrm>
        </p:grpSpPr>
        <p:sp>
          <p:nvSpPr>
            <p:cNvPr id="217" name=""/>
            <p:cNvSpPr/>
            <p:nvPr/>
          </p:nvSpPr>
          <p:spPr>
            <a:xfrm>
              <a:off x="1662120" y="3119400"/>
              <a:ext cx="801720" cy="22212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880640" y="3155760"/>
              <a:ext cx="373320" cy="12348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1808280" y="3254400"/>
            <a:ext cx="799920" cy="222120"/>
            <a:chOff x="1808280" y="3254400"/>
            <a:chExt cx="799920" cy="222120"/>
          </a:xfrm>
        </p:grpSpPr>
        <p:sp>
          <p:nvSpPr>
            <p:cNvPr id="220" name=""/>
            <p:cNvSpPr/>
            <p:nvPr/>
          </p:nvSpPr>
          <p:spPr>
            <a:xfrm>
              <a:off x="1808280" y="3254400"/>
              <a:ext cx="799920" cy="22212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026440" y="3290760"/>
              <a:ext cx="372600" cy="12348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1954080" y="3389400"/>
            <a:ext cx="800280" cy="222120"/>
            <a:chOff x="1954080" y="3389400"/>
            <a:chExt cx="800280" cy="222120"/>
          </a:xfrm>
        </p:grpSpPr>
        <p:sp>
          <p:nvSpPr>
            <p:cNvPr id="223" name=""/>
            <p:cNvSpPr/>
            <p:nvPr/>
          </p:nvSpPr>
          <p:spPr>
            <a:xfrm>
              <a:off x="1954080" y="3389400"/>
              <a:ext cx="800280" cy="22212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172240" y="3425760"/>
              <a:ext cx="372960" cy="12348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2098800" y="3524400"/>
            <a:ext cx="801720" cy="222120"/>
            <a:chOff x="2098800" y="3524400"/>
            <a:chExt cx="801720" cy="222120"/>
          </a:xfrm>
        </p:grpSpPr>
        <p:sp>
          <p:nvSpPr>
            <p:cNvPr id="226" name=""/>
            <p:cNvSpPr/>
            <p:nvPr/>
          </p:nvSpPr>
          <p:spPr>
            <a:xfrm>
              <a:off x="2098800" y="3524400"/>
              <a:ext cx="801720" cy="22212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317320" y="3560760"/>
              <a:ext cx="373320" cy="12348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2244600" y="3660840"/>
            <a:ext cx="800280" cy="222120"/>
            <a:chOff x="2244600" y="3660840"/>
            <a:chExt cx="800280" cy="222120"/>
          </a:xfrm>
        </p:grpSpPr>
        <p:sp>
          <p:nvSpPr>
            <p:cNvPr id="229" name=""/>
            <p:cNvSpPr/>
            <p:nvPr/>
          </p:nvSpPr>
          <p:spPr>
            <a:xfrm>
              <a:off x="2244600" y="3660840"/>
              <a:ext cx="800280" cy="22212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462760" y="3697200"/>
              <a:ext cx="372960" cy="12348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566640" y="4130640"/>
            <a:ext cx="1081080" cy="307080"/>
          </a:xfrm>
          <a:prstGeom prst="rect">
            <a:avLst/>
          </a:prstGeom>
          <a:solidFill>
            <a:srgbClr val="cc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127240" y="4149720"/>
            <a:ext cx="0" cy="393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6473880" y="1839960"/>
            <a:ext cx="1055520" cy="1144440"/>
            <a:chOff x="6473880" y="1839960"/>
            <a:chExt cx="1055520" cy="1144440"/>
          </a:xfrm>
        </p:grpSpPr>
        <p:sp>
          <p:nvSpPr>
            <p:cNvPr id="234" name=""/>
            <p:cNvSpPr/>
            <p:nvPr/>
          </p:nvSpPr>
          <p:spPr>
            <a:xfrm>
              <a:off x="6473880" y="1839960"/>
              <a:ext cx="1055520" cy="1144440"/>
            </a:xfrm>
            <a:prstGeom prst="flowChartMagneticDisk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546240" y="2243520"/>
              <a:ext cx="923040" cy="52020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rack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3908520" y="1660680"/>
            <a:ext cx="1054080" cy="1144440"/>
            <a:chOff x="3908520" y="1660680"/>
            <a:chExt cx="1054080" cy="1144440"/>
          </a:xfrm>
        </p:grpSpPr>
        <p:sp>
          <p:nvSpPr>
            <p:cNvPr id="237" name=""/>
            <p:cNvSpPr/>
            <p:nvPr/>
          </p:nvSpPr>
          <p:spPr>
            <a:xfrm>
              <a:off x="3908520" y="1660680"/>
              <a:ext cx="1054080" cy="1144440"/>
            </a:xfrm>
            <a:prstGeom prst="flowChartMagneticDisk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020480" y="2113200"/>
              <a:ext cx="852840" cy="52020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5694480" y="3971880"/>
            <a:ext cx="2852640" cy="1503000"/>
            <a:chOff x="5694480" y="3971880"/>
            <a:chExt cx="2852640" cy="1503000"/>
          </a:xfrm>
        </p:grpSpPr>
        <p:sp>
          <p:nvSpPr>
            <p:cNvPr id="240" name=""/>
            <p:cNvSpPr/>
            <p:nvPr/>
          </p:nvSpPr>
          <p:spPr>
            <a:xfrm>
              <a:off x="8263440" y="5042160"/>
              <a:ext cx="190800" cy="78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694480" y="4780440"/>
              <a:ext cx="2632320" cy="694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16044000">
              <a:off x="7394040" y="4203000"/>
              <a:ext cx="1029240" cy="748800"/>
            </a:xfrm>
            <a:custGeom>
              <a:avLst/>
              <a:gdLst>
                <a:gd name="textAreaLeft" fmla="*/ 174600 w 1029240"/>
                <a:gd name="textAreaRight" fmla="*/ 854640 w 1029240"/>
                <a:gd name="textAreaTop" fmla="*/ 127080 h 748800"/>
                <a:gd name="textAreaBottom" fmla="*/ 621720 h 74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147" y="21600"/>
                  </a:lnTo>
                  <a:lnTo>
                    <a:pt x="3453" y="2160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081200" y="5012640"/>
              <a:ext cx="84600" cy="78480"/>
            </a:xfrm>
            <a:prstGeom prst="ca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 rot="5400000">
              <a:off x="7934760" y="4398120"/>
              <a:ext cx="821160" cy="403200"/>
            </a:xfrm>
            <a:prstGeom prst="flowChartMagneticDrum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309160" y="4282560"/>
              <a:ext cx="84240" cy="78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349840" y="5008320"/>
              <a:ext cx="0" cy="1054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7" name="" descr=""/>
            <p:cNvPicPr/>
            <p:nvPr/>
          </p:nvPicPr>
          <p:blipFill>
            <a:blip r:embed="rId1"/>
            <a:stretch/>
          </p:blipFill>
          <p:spPr>
            <a:xfrm>
              <a:off x="6045840" y="3971880"/>
              <a:ext cx="1985400" cy="14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 flipH="1" rot="16611600">
              <a:off x="7408440" y="4573800"/>
              <a:ext cx="268200" cy="212040"/>
            </a:xfrm>
            <a:prstGeom prst="parallelogram">
              <a:avLst>
                <a:gd name="adj" fmla="val 31621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067080" y="4109760"/>
              <a:ext cx="86040" cy="9068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5400000">
              <a:off x="6274080" y="428076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5400000">
              <a:off x="6339240" y="429912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5400000">
              <a:off x="6260400" y="458460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5400000">
              <a:off x="6325560" y="460296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5400000">
              <a:off x="6251400" y="488016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5400000">
              <a:off x="6316560" y="489816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5400000">
              <a:off x="6992640" y="475344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5400000">
              <a:off x="7057800" y="477180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5400000">
              <a:off x="6979680" y="4428720"/>
              <a:ext cx="231840" cy="79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rot="5400000">
              <a:off x="7044120" y="444672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5400000">
              <a:off x="7006320" y="505728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5400000">
              <a:off x="7071840" y="5075640"/>
              <a:ext cx="10800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5400000">
              <a:off x="7616160" y="4606200"/>
              <a:ext cx="231840" cy="79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5400000">
              <a:off x="7680600" y="4624560"/>
              <a:ext cx="108360" cy="4356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5400000">
              <a:off x="7642800" y="490104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5400000">
              <a:off x="7708320" y="491940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rot="5400000">
              <a:off x="7602120" y="429768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5400000">
              <a:off x="7667280" y="431604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478280" y="4642560"/>
              <a:ext cx="151560" cy="716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3436200" y="4610160"/>
            <a:ext cx="1267200" cy="1086840"/>
            <a:chOff x="3436200" y="4610160"/>
            <a:chExt cx="1267200" cy="1086840"/>
          </a:xfrm>
        </p:grpSpPr>
        <p:sp>
          <p:nvSpPr>
            <p:cNvPr id="270" name=""/>
            <p:cNvSpPr/>
            <p:nvPr/>
          </p:nvSpPr>
          <p:spPr>
            <a:xfrm flipH="1" rot="16200000">
              <a:off x="3162600" y="4893120"/>
              <a:ext cx="1060200" cy="513720"/>
            </a:xfrm>
            <a:custGeom>
              <a:avLst/>
              <a:gdLst/>
              <a:ahLst/>
              <a:rect l="l" t="t" r="r" b="b"/>
              <a:pathLst>
                <a:path w="1615" h="337">
                  <a:moveTo>
                    <a:pt x="1055" y="43"/>
                  </a:moveTo>
                  <a:lnTo>
                    <a:pt x="1060" y="46"/>
                  </a:lnTo>
                  <a:lnTo>
                    <a:pt x="1069" y="47"/>
                  </a:lnTo>
                  <a:lnTo>
                    <a:pt x="1079" y="48"/>
                  </a:lnTo>
                  <a:lnTo>
                    <a:pt x="1086" y="52"/>
                  </a:lnTo>
                  <a:lnTo>
                    <a:pt x="1102" y="56"/>
                  </a:lnTo>
                  <a:lnTo>
                    <a:pt x="1119" y="60"/>
                  </a:lnTo>
                  <a:lnTo>
                    <a:pt x="1137" y="63"/>
                  </a:lnTo>
                  <a:lnTo>
                    <a:pt x="1154" y="68"/>
                  </a:lnTo>
                  <a:lnTo>
                    <a:pt x="1171" y="71"/>
                  </a:lnTo>
                  <a:lnTo>
                    <a:pt x="1187" y="74"/>
                  </a:lnTo>
                  <a:lnTo>
                    <a:pt x="1204" y="77"/>
                  </a:lnTo>
                  <a:lnTo>
                    <a:pt x="1221" y="81"/>
                  </a:lnTo>
                  <a:lnTo>
                    <a:pt x="1236" y="85"/>
                  </a:lnTo>
                  <a:lnTo>
                    <a:pt x="1251" y="89"/>
                  </a:lnTo>
                  <a:lnTo>
                    <a:pt x="1266" y="92"/>
                  </a:lnTo>
                  <a:lnTo>
                    <a:pt x="1282" y="96"/>
                  </a:lnTo>
                  <a:lnTo>
                    <a:pt x="1296" y="99"/>
                  </a:lnTo>
                  <a:lnTo>
                    <a:pt x="1312" y="103"/>
                  </a:lnTo>
                  <a:lnTo>
                    <a:pt x="1326" y="106"/>
                  </a:lnTo>
                  <a:lnTo>
                    <a:pt x="1342" y="110"/>
                  </a:lnTo>
                  <a:lnTo>
                    <a:pt x="1359" y="114"/>
                  </a:lnTo>
                  <a:lnTo>
                    <a:pt x="1376" y="117"/>
                  </a:lnTo>
                  <a:lnTo>
                    <a:pt x="1394" y="121"/>
                  </a:lnTo>
                  <a:lnTo>
                    <a:pt x="1409" y="126"/>
                  </a:lnTo>
                  <a:lnTo>
                    <a:pt x="1427" y="130"/>
                  </a:lnTo>
                  <a:lnTo>
                    <a:pt x="1444" y="133"/>
                  </a:lnTo>
                  <a:lnTo>
                    <a:pt x="1461" y="138"/>
                  </a:lnTo>
                  <a:lnTo>
                    <a:pt x="1478" y="142"/>
                  </a:lnTo>
                  <a:lnTo>
                    <a:pt x="1496" y="146"/>
                  </a:lnTo>
                  <a:lnTo>
                    <a:pt x="1513" y="149"/>
                  </a:lnTo>
                  <a:lnTo>
                    <a:pt x="1530" y="154"/>
                  </a:lnTo>
                  <a:lnTo>
                    <a:pt x="1547" y="158"/>
                  </a:lnTo>
                  <a:lnTo>
                    <a:pt x="1563" y="161"/>
                  </a:lnTo>
                  <a:lnTo>
                    <a:pt x="1580" y="166"/>
                  </a:lnTo>
                  <a:lnTo>
                    <a:pt x="1598" y="169"/>
                  </a:lnTo>
                  <a:lnTo>
                    <a:pt x="1615" y="173"/>
                  </a:lnTo>
                  <a:lnTo>
                    <a:pt x="770" y="337"/>
                  </a:lnTo>
                  <a:lnTo>
                    <a:pt x="0" y="137"/>
                  </a:lnTo>
                  <a:lnTo>
                    <a:pt x="598" y="39"/>
                  </a:lnTo>
                  <a:lnTo>
                    <a:pt x="614" y="36"/>
                  </a:lnTo>
                  <a:lnTo>
                    <a:pt x="630" y="34"/>
                  </a:lnTo>
                  <a:lnTo>
                    <a:pt x="645" y="32"/>
                  </a:lnTo>
                  <a:lnTo>
                    <a:pt x="661" y="30"/>
                  </a:lnTo>
                  <a:lnTo>
                    <a:pt x="678" y="27"/>
                  </a:lnTo>
                  <a:lnTo>
                    <a:pt x="694" y="25"/>
                  </a:lnTo>
                  <a:lnTo>
                    <a:pt x="710" y="22"/>
                  </a:lnTo>
                  <a:lnTo>
                    <a:pt x="726" y="20"/>
                  </a:lnTo>
                  <a:lnTo>
                    <a:pt x="742" y="17"/>
                  </a:lnTo>
                  <a:lnTo>
                    <a:pt x="757" y="15"/>
                  </a:lnTo>
                  <a:lnTo>
                    <a:pt x="773" y="13"/>
                  </a:lnTo>
                  <a:lnTo>
                    <a:pt x="790" y="11"/>
                  </a:lnTo>
                  <a:lnTo>
                    <a:pt x="806" y="7"/>
                  </a:lnTo>
                  <a:lnTo>
                    <a:pt x="822" y="5"/>
                  </a:lnTo>
                  <a:lnTo>
                    <a:pt x="838" y="2"/>
                  </a:lnTo>
                  <a:lnTo>
                    <a:pt x="854" y="0"/>
                  </a:lnTo>
                  <a:lnTo>
                    <a:pt x="878" y="6"/>
                  </a:lnTo>
                  <a:lnTo>
                    <a:pt x="904" y="12"/>
                  </a:lnTo>
                  <a:lnTo>
                    <a:pt x="928" y="17"/>
                  </a:lnTo>
                  <a:lnTo>
                    <a:pt x="953" y="22"/>
                  </a:lnTo>
                  <a:lnTo>
                    <a:pt x="979" y="28"/>
                  </a:lnTo>
                  <a:lnTo>
                    <a:pt x="1003" y="33"/>
                  </a:lnTo>
                  <a:lnTo>
                    <a:pt x="1029" y="38"/>
                  </a:lnTo>
                  <a:lnTo>
                    <a:pt x="1055" y="4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 rot="16200000">
              <a:off x="3924360" y="4340880"/>
              <a:ext cx="509760" cy="1048320"/>
            </a:xfrm>
            <a:custGeom>
              <a:avLst/>
              <a:gdLst/>
              <a:ahLst/>
              <a:rect l="l" t="t" r="r" b="b"/>
              <a:pathLst>
                <a:path w="775" h="693">
                  <a:moveTo>
                    <a:pt x="769" y="693"/>
                  </a:moveTo>
                  <a:lnTo>
                    <a:pt x="751" y="687"/>
                  </a:lnTo>
                  <a:lnTo>
                    <a:pt x="734" y="680"/>
                  </a:lnTo>
                  <a:lnTo>
                    <a:pt x="715" y="675"/>
                  </a:lnTo>
                  <a:lnTo>
                    <a:pt x="696" y="668"/>
                  </a:lnTo>
                  <a:lnTo>
                    <a:pt x="678" y="662"/>
                  </a:lnTo>
                  <a:lnTo>
                    <a:pt x="659" y="657"/>
                  </a:lnTo>
                  <a:lnTo>
                    <a:pt x="640" y="650"/>
                  </a:lnTo>
                  <a:lnTo>
                    <a:pt x="622" y="645"/>
                  </a:lnTo>
                  <a:lnTo>
                    <a:pt x="601" y="638"/>
                  </a:lnTo>
                  <a:lnTo>
                    <a:pt x="583" y="633"/>
                  </a:lnTo>
                  <a:lnTo>
                    <a:pt x="564" y="627"/>
                  </a:lnTo>
                  <a:lnTo>
                    <a:pt x="545" y="621"/>
                  </a:lnTo>
                  <a:lnTo>
                    <a:pt x="527" y="616"/>
                  </a:lnTo>
                  <a:lnTo>
                    <a:pt x="507" y="610"/>
                  </a:lnTo>
                  <a:lnTo>
                    <a:pt x="488" y="604"/>
                  </a:lnTo>
                  <a:lnTo>
                    <a:pt x="469" y="598"/>
                  </a:lnTo>
                  <a:lnTo>
                    <a:pt x="441" y="589"/>
                  </a:lnTo>
                  <a:lnTo>
                    <a:pt x="412" y="579"/>
                  </a:lnTo>
                  <a:lnTo>
                    <a:pt x="383" y="569"/>
                  </a:lnTo>
                  <a:lnTo>
                    <a:pt x="354" y="560"/>
                  </a:lnTo>
                  <a:lnTo>
                    <a:pt x="326" y="551"/>
                  </a:lnTo>
                  <a:lnTo>
                    <a:pt x="296" y="541"/>
                  </a:lnTo>
                  <a:lnTo>
                    <a:pt x="267" y="533"/>
                  </a:lnTo>
                  <a:lnTo>
                    <a:pt x="238" y="524"/>
                  </a:lnTo>
                  <a:lnTo>
                    <a:pt x="208" y="516"/>
                  </a:lnTo>
                  <a:lnTo>
                    <a:pt x="179" y="507"/>
                  </a:lnTo>
                  <a:lnTo>
                    <a:pt x="150" y="498"/>
                  </a:lnTo>
                  <a:lnTo>
                    <a:pt x="120" y="489"/>
                  </a:lnTo>
                  <a:lnTo>
                    <a:pt x="92" y="480"/>
                  </a:lnTo>
                  <a:lnTo>
                    <a:pt x="63" y="471"/>
                  </a:lnTo>
                  <a:lnTo>
                    <a:pt x="33" y="463"/>
                  </a:lnTo>
                  <a:lnTo>
                    <a:pt x="4" y="453"/>
                  </a:lnTo>
                  <a:lnTo>
                    <a:pt x="0" y="341"/>
                  </a:lnTo>
                  <a:lnTo>
                    <a:pt x="0" y="228"/>
                  </a:lnTo>
                  <a:lnTo>
                    <a:pt x="0" y="114"/>
                  </a:lnTo>
                  <a:lnTo>
                    <a:pt x="0" y="0"/>
                  </a:lnTo>
                  <a:lnTo>
                    <a:pt x="775" y="202"/>
                  </a:lnTo>
                  <a:lnTo>
                    <a:pt x="769" y="69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 rot="16200000">
              <a:off x="3903480" y="4914720"/>
              <a:ext cx="570240" cy="993960"/>
            </a:xfrm>
            <a:custGeom>
              <a:avLst/>
              <a:gdLst/>
              <a:ahLst/>
              <a:rect l="l" t="t" r="r" b="b"/>
              <a:pathLst>
                <a:path w="869" h="652">
                  <a:moveTo>
                    <a:pt x="869" y="14"/>
                  </a:moveTo>
                  <a:lnTo>
                    <a:pt x="866" y="124"/>
                  </a:lnTo>
                  <a:lnTo>
                    <a:pt x="865" y="232"/>
                  </a:lnTo>
                  <a:lnTo>
                    <a:pt x="864" y="338"/>
                  </a:lnTo>
                  <a:lnTo>
                    <a:pt x="864" y="443"/>
                  </a:lnTo>
                  <a:lnTo>
                    <a:pt x="843" y="449"/>
                  </a:lnTo>
                  <a:lnTo>
                    <a:pt x="823" y="454"/>
                  </a:lnTo>
                  <a:lnTo>
                    <a:pt x="805" y="459"/>
                  </a:lnTo>
                  <a:lnTo>
                    <a:pt x="785" y="464"/>
                  </a:lnTo>
                  <a:lnTo>
                    <a:pt x="764" y="468"/>
                  </a:lnTo>
                  <a:lnTo>
                    <a:pt x="744" y="474"/>
                  </a:lnTo>
                  <a:lnTo>
                    <a:pt x="724" y="478"/>
                  </a:lnTo>
                  <a:lnTo>
                    <a:pt x="704" y="482"/>
                  </a:lnTo>
                  <a:lnTo>
                    <a:pt x="684" y="488"/>
                  </a:lnTo>
                  <a:lnTo>
                    <a:pt x="664" y="492"/>
                  </a:lnTo>
                  <a:lnTo>
                    <a:pt x="644" y="496"/>
                  </a:lnTo>
                  <a:lnTo>
                    <a:pt x="624" y="502"/>
                  </a:lnTo>
                  <a:lnTo>
                    <a:pt x="604" y="506"/>
                  </a:lnTo>
                  <a:lnTo>
                    <a:pt x="583" y="511"/>
                  </a:lnTo>
                  <a:lnTo>
                    <a:pt x="563" y="516"/>
                  </a:lnTo>
                  <a:lnTo>
                    <a:pt x="543" y="521"/>
                  </a:lnTo>
                  <a:lnTo>
                    <a:pt x="532" y="525"/>
                  </a:lnTo>
                  <a:lnTo>
                    <a:pt x="519" y="529"/>
                  </a:lnTo>
                  <a:lnTo>
                    <a:pt x="506" y="532"/>
                  </a:lnTo>
                  <a:lnTo>
                    <a:pt x="494" y="534"/>
                  </a:lnTo>
                  <a:lnTo>
                    <a:pt x="481" y="537"/>
                  </a:lnTo>
                  <a:lnTo>
                    <a:pt x="469" y="540"/>
                  </a:lnTo>
                  <a:lnTo>
                    <a:pt x="456" y="544"/>
                  </a:lnTo>
                  <a:lnTo>
                    <a:pt x="444" y="547"/>
                  </a:lnTo>
                  <a:lnTo>
                    <a:pt x="423" y="551"/>
                  </a:lnTo>
                  <a:lnTo>
                    <a:pt x="401" y="555"/>
                  </a:lnTo>
                  <a:lnTo>
                    <a:pt x="381" y="560"/>
                  </a:lnTo>
                  <a:lnTo>
                    <a:pt x="359" y="565"/>
                  </a:lnTo>
                  <a:lnTo>
                    <a:pt x="339" y="570"/>
                  </a:lnTo>
                  <a:lnTo>
                    <a:pt x="319" y="575"/>
                  </a:lnTo>
                  <a:lnTo>
                    <a:pt x="298" y="580"/>
                  </a:lnTo>
                  <a:lnTo>
                    <a:pt x="278" y="586"/>
                  </a:lnTo>
                  <a:lnTo>
                    <a:pt x="257" y="591"/>
                  </a:lnTo>
                  <a:lnTo>
                    <a:pt x="237" y="596"/>
                  </a:lnTo>
                  <a:lnTo>
                    <a:pt x="216" y="602"/>
                  </a:lnTo>
                  <a:lnTo>
                    <a:pt x="196" y="607"/>
                  </a:lnTo>
                  <a:lnTo>
                    <a:pt x="176" y="611"/>
                  </a:lnTo>
                  <a:lnTo>
                    <a:pt x="154" y="617"/>
                  </a:lnTo>
                  <a:lnTo>
                    <a:pt x="134" y="621"/>
                  </a:lnTo>
                  <a:lnTo>
                    <a:pt x="112" y="625"/>
                  </a:lnTo>
                  <a:lnTo>
                    <a:pt x="98" y="629"/>
                  </a:lnTo>
                  <a:lnTo>
                    <a:pt x="85" y="632"/>
                  </a:lnTo>
                  <a:lnTo>
                    <a:pt x="71" y="635"/>
                  </a:lnTo>
                  <a:lnTo>
                    <a:pt x="56" y="638"/>
                  </a:lnTo>
                  <a:lnTo>
                    <a:pt x="42" y="643"/>
                  </a:lnTo>
                  <a:lnTo>
                    <a:pt x="29" y="646"/>
                  </a:lnTo>
                  <a:lnTo>
                    <a:pt x="15" y="649"/>
                  </a:lnTo>
                  <a:lnTo>
                    <a:pt x="0" y="652"/>
                  </a:lnTo>
                  <a:lnTo>
                    <a:pt x="0" y="216"/>
                  </a:lnTo>
                  <a:lnTo>
                    <a:pt x="5" y="186"/>
                  </a:lnTo>
                  <a:lnTo>
                    <a:pt x="33" y="180"/>
                  </a:lnTo>
                  <a:lnTo>
                    <a:pt x="61" y="174"/>
                  </a:lnTo>
                  <a:lnTo>
                    <a:pt x="88" y="168"/>
                  </a:lnTo>
                  <a:lnTo>
                    <a:pt x="117" y="162"/>
                  </a:lnTo>
                  <a:lnTo>
                    <a:pt x="144" y="156"/>
                  </a:lnTo>
                  <a:lnTo>
                    <a:pt x="171" y="150"/>
                  </a:lnTo>
                  <a:lnTo>
                    <a:pt x="199" y="143"/>
                  </a:lnTo>
                  <a:lnTo>
                    <a:pt x="224" y="138"/>
                  </a:lnTo>
                  <a:lnTo>
                    <a:pt x="252" y="131"/>
                  </a:lnTo>
                  <a:lnTo>
                    <a:pt x="279" y="126"/>
                  </a:lnTo>
                  <a:lnTo>
                    <a:pt x="306" y="120"/>
                  </a:lnTo>
                  <a:lnTo>
                    <a:pt x="332" y="113"/>
                  </a:lnTo>
                  <a:lnTo>
                    <a:pt x="359" y="108"/>
                  </a:lnTo>
                  <a:lnTo>
                    <a:pt x="387" y="102"/>
                  </a:lnTo>
                  <a:lnTo>
                    <a:pt x="413" y="96"/>
                  </a:lnTo>
                  <a:lnTo>
                    <a:pt x="440" y="91"/>
                  </a:lnTo>
                  <a:lnTo>
                    <a:pt x="467" y="85"/>
                  </a:lnTo>
                  <a:lnTo>
                    <a:pt x="493" y="79"/>
                  </a:lnTo>
                  <a:lnTo>
                    <a:pt x="520" y="73"/>
                  </a:lnTo>
                  <a:lnTo>
                    <a:pt x="546" y="68"/>
                  </a:lnTo>
                  <a:lnTo>
                    <a:pt x="573" y="63"/>
                  </a:lnTo>
                  <a:lnTo>
                    <a:pt x="599" y="56"/>
                  </a:lnTo>
                  <a:lnTo>
                    <a:pt x="625" y="51"/>
                  </a:lnTo>
                  <a:lnTo>
                    <a:pt x="652" y="45"/>
                  </a:lnTo>
                  <a:lnTo>
                    <a:pt x="678" y="40"/>
                  </a:lnTo>
                  <a:lnTo>
                    <a:pt x="706" y="33"/>
                  </a:lnTo>
                  <a:lnTo>
                    <a:pt x="731" y="28"/>
                  </a:lnTo>
                  <a:lnTo>
                    <a:pt x="757" y="23"/>
                  </a:lnTo>
                  <a:lnTo>
                    <a:pt x="785" y="17"/>
                  </a:lnTo>
                  <a:lnTo>
                    <a:pt x="810" y="11"/>
                  </a:lnTo>
                  <a:lnTo>
                    <a:pt x="838" y="6"/>
                  </a:lnTo>
                  <a:lnTo>
                    <a:pt x="864" y="0"/>
                  </a:lnTo>
                  <a:lnTo>
                    <a:pt x="869" y="14"/>
                  </a:lnTo>
                  <a:close/>
                </a:path>
              </a:pathLst>
            </a:custGeom>
            <a:solidFill>
              <a:srgbClr val="afaf5e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097520" y="4935960"/>
              <a:ext cx="308880" cy="11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182480" y="4954320"/>
              <a:ext cx="143640" cy="6300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490120" y="4586400"/>
            <a:ext cx="1267200" cy="1088640"/>
            <a:chOff x="2490120" y="4586400"/>
            <a:chExt cx="1267200" cy="1088640"/>
          </a:xfrm>
        </p:grpSpPr>
        <p:sp>
          <p:nvSpPr>
            <p:cNvPr id="276" name=""/>
            <p:cNvSpPr/>
            <p:nvPr/>
          </p:nvSpPr>
          <p:spPr>
            <a:xfrm flipH="1" rot="16200000">
              <a:off x="2215440" y="4870080"/>
              <a:ext cx="1062000" cy="513720"/>
            </a:xfrm>
            <a:custGeom>
              <a:avLst/>
              <a:gdLst/>
              <a:ahLst/>
              <a:rect l="l" t="t" r="r" b="b"/>
              <a:pathLst>
                <a:path w="1615" h="337">
                  <a:moveTo>
                    <a:pt x="1055" y="43"/>
                  </a:moveTo>
                  <a:lnTo>
                    <a:pt x="1060" y="46"/>
                  </a:lnTo>
                  <a:lnTo>
                    <a:pt x="1069" y="47"/>
                  </a:lnTo>
                  <a:lnTo>
                    <a:pt x="1079" y="48"/>
                  </a:lnTo>
                  <a:lnTo>
                    <a:pt x="1086" y="52"/>
                  </a:lnTo>
                  <a:lnTo>
                    <a:pt x="1102" y="56"/>
                  </a:lnTo>
                  <a:lnTo>
                    <a:pt x="1119" y="60"/>
                  </a:lnTo>
                  <a:lnTo>
                    <a:pt x="1137" y="63"/>
                  </a:lnTo>
                  <a:lnTo>
                    <a:pt x="1154" y="68"/>
                  </a:lnTo>
                  <a:lnTo>
                    <a:pt x="1171" y="71"/>
                  </a:lnTo>
                  <a:lnTo>
                    <a:pt x="1187" y="74"/>
                  </a:lnTo>
                  <a:lnTo>
                    <a:pt x="1204" y="77"/>
                  </a:lnTo>
                  <a:lnTo>
                    <a:pt x="1221" y="81"/>
                  </a:lnTo>
                  <a:lnTo>
                    <a:pt x="1236" y="85"/>
                  </a:lnTo>
                  <a:lnTo>
                    <a:pt x="1251" y="89"/>
                  </a:lnTo>
                  <a:lnTo>
                    <a:pt x="1266" y="92"/>
                  </a:lnTo>
                  <a:lnTo>
                    <a:pt x="1282" y="96"/>
                  </a:lnTo>
                  <a:lnTo>
                    <a:pt x="1296" y="99"/>
                  </a:lnTo>
                  <a:lnTo>
                    <a:pt x="1312" y="103"/>
                  </a:lnTo>
                  <a:lnTo>
                    <a:pt x="1326" y="106"/>
                  </a:lnTo>
                  <a:lnTo>
                    <a:pt x="1342" y="110"/>
                  </a:lnTo>
                  <a:lnTo>
                    <a:pt x="1359" y="114"/>
                  </a:lnTo>
                  <a:lnTo>
                    <a:pt x="1376" y="117"/>
                  </a:lnTo>
                  <a:lnTo>
                    <a:pt x="1394" y="121"/>
                  </a:lnTo>
                  <a:lnTo>
                    <a:pt x="1409" y="126"/>
                  </a:lnTo>
                  <a:lnTo>
                    <a:pt x="1427" y="130"/>
                  </a:lnTo>
                  <a:lnTo>
                    <a:pt x="1444" y="133"/>
                  </a:lnTo>
                  <a:lnTo>
                    <a:pt x="1461" y="138"/>
                  </a:lnTo>
                  <a:lnTo>
                    <a:pt x="1478" y="142"/>
                  </a:lnTo>
                  <a:lnTo>
                    <a:pt x="1496" y="146"/>
                  </a:lnTo>
                  <a:lnTo>
                    <a:pt x="1513" y="149"/>
                  </a:lnTo>
                  <a:lnTo>
                    <a:pt x="1530" y="154"/>
                  </a:lnTo>
                  <a:lnTo>
                    <a:pt x="1547" y="158"/>
                  </a:lnTo>
                  <a:lnTo>
                    <a:pt x="1563" y="161"/>
                  </a:lnTo>
                  <a:lnTo>
                    <a:pt x="1580" y="166"/>
                  </a:lnTo>
                  <a:lnTo>
                    <a:pt x="1598" y="169"/>
                  </a:lnTo>
                  <a:lnTo>
                    <a:pt x="1615" y="173"/>
                  </a:lnTo>
                  <a:lnTo>
                    <a:pt x="770" y="337"/>
                  </a:lnTo>
                  <a:lnTo>
                    <a:pt x="0" y="137"/>
                  </a:lnTo>
                  <a:lnTo>
                    <a:pt x="598" y="39"/>
                  </a:lnTo>
                  <a:lnTo>
                    <a:pt x="614" y="36"/>
                  </a:lnTo>
                  <a:lnTo>
                    <a:pt x="630" y="34"/>
                  </a:lnTo>
                  <a:lnTo>
                    <a:pt x="645" y="32"/>
                  </a:lnTo>
                  <a:lnTo>
                    <a:pt x="661" y="30"/>
                  </a:lnTo>
                  <a:lnTo>
                    <a:pt x="678" y="27"/>
                  </a:lnTo>
                  <a:lnTo>
                    <a:pt x="694" y="25"/>
                  </a:lnTo>
                  <a:lnTo>
                    <a:pt x="710" y="22"/>
                  </a:lnTo>
                  <a:lnTo>
                    <a:pt x="726" y="20"/>
                  </a:lnTo>
                  <a:lnTo>
                    <a:pt x="742" y="17"/>
                  </a:lnTo>
                  <a:lnTo>
                    <a:pt x="757" y="15"/>
                  </a:lnTo>
                  <a:lnTo>
                    <a:pt x="773" y="13"/>
                  </a:lnTo>
                  <a:lnTo>
                    <a:pt x="790" y="11"/>
                  </a:lnTo>
                  <a:lnTo>
                    <a:pt x="806" y="7"/>
                  </a:lnTo>
                  <a:lnTo>
                    <a:pt x="822" y="5"/>
                  </a:lnTo>
                  <a:lnTo>
                    <a:pt x="838" y="2"/>
                  </a:lnTo>
                  <a:lnTo>
                    <a:pt x="854" y="0"/>
                  </a:lnTo>
                  <a:lnTo>
                    <a:pt x="878" y="6"/>
                  </a:lnTo>
                  <a:lnTo>
                    <a:pt x="904" y="12"/>
                  </a:lnTo>
                  <a:lnTo>
                    <a:pt x="928" y="17"/>
                  </a:lnTo>
                  <a:lnTo>
                    <a:pt x="953" y="22"/>
                  </a:lnTo>
                  <a:lnTo>
                    <a:pt x="979" y="28"/>
                  </a:lnTo>
                  <a:lnTo>
                    <a:pt x="1003" y="33"/>
                  </a:lnTo>
                  <a:lnTo>
                    <a:pt x="1029" y="38"/>
                  </a:lnTo>
                  <a:lnTo>
                    <a:pt x="1055" y="4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 rot="16200000">
              <a:off x="2977920" y="4317480"/>
              <a:ext cx="510480" cy="1048320"/>
            </a:xfrm>
            <a:custGeom>
              <a:avLst/>
              <a:gdLst/>
              <a:ahLst/>
              <a:rect l="l" t="t" r="r" b="b"/>
              <a:pathLst>
                <a:path w="775" h="693">
                  <a:moveTo>
                    <a:pt x="769" y="693"/>
                  </a:moveTo>
                  <a:lnTo>
                    <a:pt x="751" y="687"/>
                  </a:lnTo>
                  <a:lnTo>
                    <a:pt x="734" y="680"/>
                  </a:lnTo>
                  <a:lnTo>
                    <a:pt x="715" y="675"/>
                  </a:lnTo>
                  <a:lnTo>
                    <a:pt x="696" y="668"/>
                  </a:lnTo>
                  <a:lnTo>
                    <a:pt x="678" y="662"/>
                  </a:lnTo>
                  <a:lnTo>
                    <a:pt x="659" y="657"/>
                  </a:lnTo>
                  <a:lnTo>
                    <a:pt x="640" y="650"/>
                  </a:lnTo>
                  <a:lnTo>
                    <a:pt x="622" y="645"/>
                  </a:lnTo>
                  <a:lnTo>
                    <a:pt x="601" y="638"/>
                  </a:lnTo>
                  <a:lnTo>
                    <a:pt x="583" y="633"/>
                  </a:lnTo>
                  <a:lnTo>
                    <a:pt x="564" y="627"/>
                  </a:lnTo>
                  <a:lnTo>
                    <a:pt x="545" y="621"/>
                  </a:lnTo>
                  <a:lnTo>
                    <a:pt x="527" y="616"/>
                  </a:lnTo>
                  <a:lnTo>
                    <a:pt x="507" y="610"/>
                  </a:lnTo>
                  <a:lnTo>
                    <a:pt x="488" y="604"/>
                  </a:lnTo>
                  <a:lnTo>
                    <a:pt x="469" y="598"/>
                  </a:lnTo>
                  <a:lnTo>
                    <a:pt x="441" y="589"/>
                  </a:lnTo>
                  <a:lnTo>
                    <a:pt x="412" y="579"/>
                  </a:lnTo>
                  <a:lnTo>
                    <a:pt x="383" y="569"/>
                  </a:lnTo>
                  <a:lnTo>
                    <a:pt x="354" y="560"/>
                  </a:lnTo>
                  <a:lnTo>
                    <a:pt x="326" y="551"/>
                  </a:lnTo>
                  <a:lnTo>
                    <a:pt x="296" y="541"/>
                  </a:lnTo>
                  <a:lnTo>
                    <a:pt x="267" y="533"/>
                  </a:lnTo>
                  <a:lnTo>
                    <a:pt x="238" y="524"/>
                  </a:lnTo>
                  <a:lnTo>
                    <a:pt x="208" y="516"/>
                  </a:lnTo>
                  <a:lnTo>
                    <a:pt x="179" y="507"/>
                  </a:lnTo>
                  <a:lnTo>
                    <a:pt x="150" y="498"/>
                  </a:lnTo>
                  <a:lnTo>
                    <a:pt x="120" y="489"/>
                  </a:lnTo>
                  <a:lnTo>
                    <a:pt x="92" y="480"/>
                  </a:lnTo>
                  <a:lnTo>
                    <a:pt x="63" y="471"/>
                  </a:lnTo>
                  <a:lnTo>
                    <a:pt x="33" y="463"/>
                  </a:lnTo>
                  <a:lnTo>
                    <a:pt x="4" y="453"/>
                  </a:lnTo>
                  <a:lnTo>
                    <a:pt x="0" y="341"/>
                  </a:lnTo>
                  <a:lnTo>
                    <a:pt x="0" y="228"/>
                  </a:lnTo>
                  <a:lnTo>
                    <a:pt x="0" y="114"/>
                  </a:lnTo>
                  <a:lnTo>
                    <a:pt x="0" y="0"/>
                  </a:lnTo>
                  <a:lnTo>
                    <a:pt x="775" y="202"/>
                  </a:lnTo>
                  <a:lnTo>
                    <a:pt x="769" y="69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 rot="16200000">
              <a:off x="2957040" y="4892400"/>
              <a:ext cx="570960" cy="993960"/>
            </a:xfrm>
            <a:custGeom>
              <a:avLst/>
              <a:gdLst/>
              <a:ahLst/>
              <a:rect l="l" t="t" r="r" b="b"/>
              <a:pathLst>
                <a:path w="869" h="652">
                  <a:moveTo>
                    <a:pt x="869" y="14"/>
                  </a:moveTo>
                  <a:lnTo>
                    <a:pt x="866" y="124"/>
                  </a:lnTo>
                  <a:lnTo>
                    <a:pt x="865" y="232"/>
                  </a:lnTo>
                  <a:lnTo>
                    <a:pt x="864" y="338"/>
                  </a:lnTo>
                  <a:lnTo>
                    <a:pt x="864" y="443"/>
                  </a:lnTo>
                  <a:lnTo>
                    <a:pt x="843" y="449"/>
                  </a:lnTo>
                  <a:lnTo>
                    <a:pt x="823" y="454"/>
                  </a:lnTo>
                  <a:lnTo>
                    <a:pt x="805" y="459"/>
                  </a:lnTo>
                  <a:lnTo>
                    <a:pt x="785" y="464"/>
                  </a:lnTo>
                  <a:lnTo>
                    <a:pt x="764" y="468"/>
                  </a:lnTo>
                  <a:lnTo>
                    <a:pt x="744" y="474"/>
                  </a:lnTo>
                  <a:lnTo>
                    <a:pt x="724" y="478"/>
                  </a:lnTo>
                  <a:lnTo>
                    <a:pt x="704" y="482"/>
                  </a:lnTo>
                  <a:lnTo>
                    <a:pt x="684" y="488"/>
                  </a:lnTo>
                  <a:lnTo>
                    <a:pt x="664" y="492"/>
                  </a:lnTo>
                  <a:lnTo>
                    <a:pt x="644" y="496"/>
                  </a:lnTo>
                  <a:lnTo>
                    <a:pt x="624" y="502"/>
                  </a:lnTo>
                  <a:lnTo>
                    <a:pt x="604" y="506"/>
                  </a:lnTo>
                  <a:lnTo>
                    <a:pt x="583" y="511"/>
                  </a:lnTo>
                  <a:lnTo>
                    <a:pt x="563" y="516"/>
                  </a:lnTo>
                  <a:lnTo>
                    <a:pt x="543" y="521"/>
                  </a:lnTo>
                  <a:lnTo>
                    <a:pt x="532" y="525"/>
                  </a:lnTo>
                  <a:lnTo>
                    <a:pt x="519" y="529"/>
                  </a:lnTo>
                  <a:lnTo>
                    <a:pt x="506" y="532"/>
                  </a:lnTo>
                  <a:lnTo>
                    <a:pt x="494" y="534"/>
                  </a:lnTo>
                  <a:lnTo>
                    <a:pt x="481" y="537"/>
                  </a:lnTo>
                  <a:lnTo>
                    <a:pt x="469" y="540"/>
                  </a:lnTo>
                  <a:lnTo>
                    <a:pt x="456" y="544"/>
                  </a:lnTo>
                  <a:lnTo>
                    <a:pt x="444" y="547"/>
                  </a:lnTo>
                  <a:lnTo>
                    <a:pt x="423" y="551"/>
                  </a:lnTo>
                  <a:lnTo>
                    <a:pt x="401" y="555"/>
                  </a:lnTo>
                  <a:lnTo>
                    <a:pt x="381" y="560"/>
                  </a:lnTo>
                  <a:lnTo>
                    <a:pt x="359" y="565"/>
                  </a:lnTo>
                  <a:lnTo>
                    <a:pt x="339" y="570"/>
                  </a:lnTo>
                  <a:lnTo>
                    <a:pt x="319" y="575"/>
                  </a:lnTo>
                  <a:lnTo>
                    <a:pt x="298" y="580"/>
                  </a:lnTo>
                  <a:lnTo>
                    <a:pt x="278" y="586"/>
                  </a:lnTo>
                  <a:lnTo>
                    <a:pt x="257" y="591"/>
                  </a:lnTo>
                  <a:lnTo>
                    <a:pt x="237" y="596"/>
                  </a:lnTo>
                  <a:lnTo>
                    <a:pt x="216" y="602"/>
                  </a:lnTo>
                  <a:lnTo>
                    <a:pt x="196" y="607"/>
                  </a:lnTo>
                  <a:lnTo>
                    <a:pt x="176" y="611"/>
                  </a:lnTo>
                  <a:lnTo>
                    <a:pt x="154" y="617"/>
                  </a:lnTo>
                  <a:lnTo>
                    <a:pt x="134" y="621"/>
                  </a:lnTo>
                  <a:lnTo>
                    <a:pt x="112" y="625"/>
                  </a:lnTo>
                  <a:lnTo>
                    <a:pt x="98" y="629"/>
                  </a:lnTo>
                  <a:lnTo>
                    <a:pt x="85" y="632"/>
                  </a:lnTo>
                  <a:lnTo>
                    <a:pt x="71" y="635"/>
                  </a:lnTo>
                  <a:lnTo>
                    <a:pt x="56" y="638"/>
                  </a:lnTo>
                  <a:lnTo>
                    <a:pt x="42" y="643"/>
                  </a:lnTo>
                  <a:lnTo>
                    <a:pt x="29" y="646"/>
                  </a:lnTo>
                  <a:lnTo>
                    <a:pt x="15" y="649"/>
                  </a:lnTo>
                  <a:lnTo>
                    <a:pt x="0" y="652"/>
                  </a:lnTo>
                  <a:lnTo>
                    <a:pt x="0" y="216"/>
                  </a:lnTo>
                  <a:lnTo>
                    <a:pt x="5" y="186"/>
                  </a:lnTo>
                  <a:lnTo>
                    <a:pt x="33" y="180"/>
                  </a:lnTo>
                  <a:lnTo>
                    <a:pt x="61" y="174"/>
                  </a:lnTo>
                  <a:lnTo>
                    <a:pt x="88" y="168"/>
                  </a:lnTo>
                  <a:lnTo>
                    <a:pt x="117" y="162"/>
                  </a:lnTo>
                  <a:lnTo>
                    <a:pt x="144" y="156"/>
                  </a:lnTo>
                  <a:lnTo>
                    <a:pt x="171" y="150"/>
                  </a:lnTo>
                  <a:lnTo>
                    <a:pt x="199" y="143"/>
                  </a:lnTo>
                  <a:lnTo>
                    <a:pt x="224" y="138"/>
                  </a:lnTo>
                  <a:lnTo>
                    <a:pt x="252" y="131"/>
                  </a:lnTo>
                  <a:lnTo>
                    <a:pt x="279" y="126"/>
                  </a:lnTo>
                  <a:lnTo>
                    <a:pt x="306" y="120"/>
                  </a:lnTo>
                  <a:lnTo>
                    <a:pt x="332" y="113"/>
                  </a:lnTo>
                  <a:lnTo>
                    <a:pt x="359" y="108"/>
                  </a:lnTo>
                  <a:lnTo>
                    <a:pt x="387" y="102"/>
                  </a:lnTo>
                  <a:lnTo>
                    <a:pt x="413" y="96"/>
                  </a:lnTo>
                  <a:lnTo>
                    <a:pt x="440" y="91"/>
                  </a:lnTo>
                  <a:lnTo>
                    <a:pt x="467" y="85"/>
                  </a:lnTo>
                  <a:lnTo>
                    <a:pt x="493" y="79"/>
                  </a:lnTo>
                  <a:lnTo>
                    <a:pt x="520" y="73"/>
                  </a:lnTo>
                  <a:lnTo>
                    <a:pt x="546" y="68"/>
                  </a:lnTo>
                  <a:lnTo>
                    <a:pt x="573" y="63"/>
                  </a:lnTo>
                  <a:lnTo>
                    <a:pt x="599" y="56"/>
                  </a:lnTo>
                  <a:lnTo>
                    <a:pt x="625" y="51"/>
                  </a:lnTo>
                  <a:lnTo>
                    <a:pt x="652" y="45"/>
                  </a:lnTo>
                  <a:lnTo>
                    <a:pt x="678" y="40"/>
                  </a:lnTo>
                  <a:lnTo>
                    <a:pt x="706" y="33"/>
                  </a:lnTo>
                  <a:lnTo>
                    <a:pt x="731" y="28"/>
                  </a:lnTo>
                  <a:lnTo>
                    <a:pt x="757" y="23"/>
                  </a:lnTo>
                  <a:lnTo>
                    <a:pt x="785" y="17"/>
                  </a:lnTo>
                  <a:lnTo>
                    <a:pt x="810" y="11"/>
                  </a:lnTo>
                  <a:lnTo>
                    <a:pt x="838" y="6"/>
                  </a:lnTo>
                  <a:lnTo>
                    <a:pt x="864" y="0"/>
                  </a:lnTo>
                  <a:lnTo>
                    <a:pt x="869" y="14"/>
                  </a:lnTo>
                  <a:close/>
                </a:path>
              </a:pathLst>
            </a:custGeom>
            <a:solidFill>
              <a:srgbClr val="afaf5e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151440" y="4912920"/>
              <a:ext cx="308880" cy="11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236400" y="4930920"/>
              <a:ext cx="143640" cy="6300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1483560" y="4586400"/>
            <a:ext cx="1267200" cy="1088640"/>
            <a:chOff x="1483560" y="4586400"/>
            <a:chExt cx="1267200" cy="1088640"/>
          </a:xfrm>
        </p:grpSpPr>
        <p:sp>
          <p:nvSpPr>
            <p:cNvPr id="282" name=""/>
            <p:cNvSpPr/>
            <p:nvPr/>
          </p:nvSpPr>
          <p:spPr>
            <a:xfrm flipH="1" rot="16200000">
              <a:off x="1208880" y="4870080"/>
              <a:ext cx="1062000" cy="513720"/>
            </a:xfrm>
            <a:custGeom>
              <a:avLst/>
              <a:gdLst/>
              <a:ahLst/>
              <a:rect l="l" t="t" r="r" b="b"/>
              <a:pathLst>
                <a:path w="1615" h="337">
                  <a:moveTo>
                    <a:pt x="1055" y="43"/>
                  </a:moveTo>
                  <a:lnTo>
                    <a:pt x="1060" y="46"/>
                  </a:lnTo>
                  <a:lnTo>
                    <a:pt x="1069" y="47"/>
                  </a:lnTo>
                  <a:lnTo>
                    <a:pt x="1079" y="48"/>
                  </a:lnTo>
                  <a:lnTo>
                    <a:pt x="1086" y="52"/>
                  </a:lnTo>
                  <a:lnTo>
                    <a:pt x="1102" y="56"/>
                  </a:lnTo>
                  <a:lnTo>
                    <a:pt x="1119" y="60"/>
                  </a:lnTo>
                  <a:lnTo>
                    <a:pt x="1137" y="63"/>
                  </a:lnTo>
                  <a:lnTo>
                    <a:pt x="1154" y="68"/>
                  </a:lnTo>
                  <a:lnTo>
                    <a:pt x="1171" y="71"/>
                  </a:lnTo>
                  <a:lnTo>
                    <a:pt x="1187" y="74"/>
                  </a:lnTo>
                  <a:lnTo>
                    <a:pt x="1204" y="77"/>
                  </a:lnTo>
                  <a:lnTo>
                    <a:pt x="1221" y="81"/>
                  </a:lnTo>
                  <a:lnTo>
                    <a:pt x="1236" y="85"/>
                  </a:lnTo>
                  <a:lnTo>
                    <a:pt x="1251" y="89"/>
                  </a:lnTo>
                  <a:lnTo>
                    <a:pt x="1266" y="92"/>
                  </a:lnTo>
                  <a:lnTo>
                    <a:pt x="1282" y="96"/>
                  </a:lnTo>
                  <a:lnTo>
                    <a:pt x="1296" y="99"/>
                  </a:lnTo>
                  <a:lnTo>
                    <a:pt x="1312" y="103"/>
                  </a:lnTo>
                  <a:lnTo>
                    <a:pt x="1326" y="106"/>
                  </a:lnTo>
                  <a:lnTo>
                    <a:pt x="1342" y="110"/>
                  </a:lnTo>
                  <a:lnTo>
                    <a:pt x="1359" y="114"/>
                  </a:lnTo>
                  <a:lnTo>
                    <a:pt x="1376" y="117"/>
                  </a:lnTo>
                  <a:lnTo>
                    <a:pt x="1394" y="121"/>
                  </a:lnTo>
                  <a:lnTo>
                    <a:pt x="1409" y="126"/>
                  </a:lnTo>
                  <a:lnTo>
                    <a:pt x="1427" y="130"/>
                  </a:lnTo>
                  <a:lnTo>
                    <a:pt x="1444" y="133"/>
                  </a:lnTo>
                  <a:lnTo>
                    <a:pt x="1461" y="138"/>
                  </a:lnTo>
                  <a:lnTo>
                    <a:pt x="1478" y="142"/>
                  </a:lnTo>
                  <a:lnTo>
                    <a:pt x="1496" y="146"/>
                  </a:lnTo>
                  <a:lnTo>
                    <a:pt x="1513" y="149"/>
                  </a:lnTo>
                  <a:lnTo>
                    <a:pt x="1530" y="154"/>
                  </a:lnTo>
                  <a:lnTo>
                    <a:pt x="1547" y="158"/>
                  </a:lnTo>
                  <a:lnTo>
                    <a:pt x="1563" y="161"/>
                  </a:lnTo>
                  <a:lnTo>
                    <a:pt x="1580" y="166"/>
                  </a:lnTo>
                  <a:lnTo>
                    <a:pt x="1598" y="169"/>
                  </a:lnTo>
                  <a:lnTo>
                    <a:pt x="1615" y="173"/>
                  </a:lnTo>
                  <a:lnTo>
                    <a:pt x="770" y="337"/>
                  </a:lnTo>
                  <a:lnTo>
                    <a:pt x="0" y="137"/>
                  </a:lnTo>
                  <a:lnTo>
                    <a:pt x="598" y="39"/>
                  </a:lnTo>
                  <a:lnTo>
                    <a:pt x="614" y="36"/>
                  </a:lnTo>
                  <a:lnTo>
                    <a:pt x="630" y="34"/>
                  </a:lnTo>
                  <a:lnTo>
                    <a:pt x="645" y="32"/>
                  </a:lnTo>
                  <a:lnTo>
                    <a:pt x="661" y="30"/>
                  </a:lnTo>
                  <a:lnTo>
                    <a:pt x="678" y="27"/>
                  </a:lnTo>
                  <a:lnTo>
                    <a:pt x="694" y="25"/>
                  </a:lnTo>
                  <a:lnTo>
                    <a:pt x="710" y="22"/>
                  </a:lnTo>
                  <a:lnTo>
                    <a:pt x="726" y="20"/>
                  </a:lnTo>
                  <a:lnTo>
                    <a:pt x="742" y="17"/>
                  </a:lnTo>
                  <a:lnTo>
                    <a:pt x="757" y="15"/>
                  </a:lnTo>
                  <a:lnTo>
                    <a:pt x="773" y="13"/>
                  </a:lnTo>
                  <a:lnTo>
                    <a:pt x="790" y="11"/>
                  </a:lnTo>
                  <a:lnTo>
                    <a:pt x="806" y="7"/>
                  </a:lnTo>
                  <a:lnTo>
                    <a:pt x="822" y="5"/>
                  </a:lnTo>
                  <a:lnTo>
                    <a:pt x="838" y="2"/>
                  </a:lnTo>
                  <a:lnTo>
                    <a:pt x="854" y="0"/>
                  </a:lnTo>
                  <a:lnTo>
                    <a:pt x="878" y="6"/>
                  </a:lnTo>
                  <a:lnTo>
                    <a:pt x="904" y="12"/>
                  </a:lnTo>
                  <a:lnTo>
                    <a:pt x="928" y="17"/>
                  </a:lnTo>
                  <a:lnTo>
                    <a:pt x="953" y="22"/>
                  </a:lnTo>
                  <a:lnTo>
                    <a:pt x="979" y="28"/>
                  </a:lnTo>
                  <a:lnTo>
                    <a:pt x="1003" y="33"/>
                  </a:lnTo>
                  <a:lnTo>
                    <a:pt x="1029" y="38"/>
                  </a:lnTo>
                  <a:lnTo>
                    <a:pt x="1055" y="4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 rot="16200000">
              <a:off x="1971360" y="4317480"/>
              <a:ext cx="510480" cy="1048320"/>
            </a:xfrm>
            <a:custGeom>
              <a:avLst/>
              <a:gdLst/>
              <a:ahLst/>
              <a:rect l="l" t="t" r="r" b="b"/>
              <a:pathLst>
                <a:path w="775" h="693">
                  <a:moveTo>
                    <a:pt x="769" y="693"/>
                  </a:moveTo>
                  <a:lnTo>
                    <a:pt x="751" y="687"/>
                  </a:lnTo>
                  <a:lnTo>
                    <a:pt x="734" y="680"/>
                  </a:lnTo>
                  <a:lnTo>
                    <a:pt x="715" y="675"/>
                  </a:lnTo>
                  <a:lnTo>
                    <a:pt x="696" y="668"/>
                  </a:lnTo>
                  <a:lnTo>
                    <a:pt x="678" y="662"/>
                  </a:lnTo>
                  <a:lnTo>
                    <a:pt x="659" y="657"/>
                  </a:lnTo>
                  <a:lnTo>
                    <a:pt x="640" y="650"/>
                  </a:lnTo>
                  <a:lnTo>
                    <a:pt x="622" y="645"/>
                  </a:lnTo>
                  <a:lnTo>
                    <a:pt x="601" y="638"/>
                  </a:lnTo>
                  <a:lnTo>
                    <a:pt x="583" y="633"/>
                  </a:lnTo>
                  <a:lnTo>
                    <a:pt x="564" y="627"/>
                  </a:lnTo>
                  <a:lnTo>
                    <a:pt x="545" y="621"/>
                  </a:lnTo>
                  <a:lnTo>
                    <a:pt x="527" y="616"/>
                  </a:lnTo>
                  <a:lnTo>
                    <a:pt x="507" y="610"/>
                  </a:lnTo>
                  <a:lnTo>
                    <a:pt x="488" y="604"/>
                  </a:lnTo>
                  <a:lnTo>
                    <a:pt x="469" y="598"/>
                  </a:lnTo>
                  <a:lnTo>
                    <a:pt x="441" y="589"/>
                  </a:lnTo>
                  <a:lnTo>
                    <a:pt x="412" y="579"/>
                  </a:lnTo>
                  <a:lnTo>
                    <a:pt x="383" y="569"/>
                  </a:lnTo>
                  <a:lnTo>
                    <a:pt x="354" y="560"/>
                  </a:lnTo>
                  <a:lnTo>
                    <a:pt x="326" y="551"/>
                  </a:lnTo>
                  <a:lnTo>
                    <a:pt x="296" y="541"/>
                  </a:lnTo>
                  <a:lnTo>
                    <a:pt x="267" y="533"/>
                  </a:lnTo>
                  <a:lnTo>
                    <a:pt x="238" y="524"/>
                  </a:lnTo>
                  <a:lnTo>
                    <a:pt x="208" y="516"/>
                  </a:lnTo>
                  <a:lnTo>
                    <a:pt x="179" y="507"/>
                  </a:lnTo>
                  <a:lnTo>
                    <a:pt x="150" y="498"/>
                  </a:lnTo>
                  <a:lnTo>
                    <a:pt x="120" y="489"/>
                  </a:lnTo>
                  <a:lnTo>
                    <a:pt x="92" y="480"/>
                  </a:lnTo>
                  <a:lnTo>
                    <a:pt x="63" y="471"/>
                  </a:lnTo>
                  <a:lnTo>
                    <a:pt x="33" y="463"/>
                  </a:lnTo>
                  <a:lnTo>
                    <a:pt x="4" y="453"/>
                  </a:lnTo>
                  <a:lnTo>
                    <a:pt x="0" y="341"/>
                  </a:lnTo>
                  <a:lnTo>
                    <a:pt x="0" y="228"/>
                  </a:lnTo>
                  <a:lnTo>
                    <a:pt x="0" y="114"/>
                  </a:lnTo>
                  <a:lnTo>
                    <a:pt x="0" y="0"/>
                  </a:lnTo>
                  <a:lnTo>
                    <a:pt x="775" y="202"/>
                  </a:lnTo>
                  <a:lnTo>
                    <a:pt x="769" y="69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 rot="16200000">
              <a:off x="1950480" y="4892400"/>
              <a:ext cx="570960" cy="993960"/>
            </a:xfrm>
            <a:custGeom>
              <a:avLst/>
              <a:gdLst/>
              <a:ahLst/>
              <a:rect l="l" t="t" r="r" b="b"/>
              <a:pathLst>
                <a:path w="869" h="652">
                  <a:moveTo>
                    <a:pt x="869" y="14"/>
                  </a:moveTo>
                  <a:lnTo>
                    <a:pt x="866" y="124"/>
                  </a:lnTo>
                  <a:lnTo>
                    <a:pt x="865" y="232"/>
                  </a:lnTo>
                  <a:lnTo>
                    <a:pt x="864" y="338"/>
                  </a:lnTo>
                  <a:lnTo>
                    <a:pt x="864" y="443"/>
                  </a:lnTo>
                  <a:lnTo>
                    <a:pt x="843" y="449"/>
                  </a:lnTo>
                  <a:lnTo>
                    <a:pt x="823" y="454"/>
                  </a:lnTo>
                  <a:lnTo>
                    <a:pt x="805" y="459"/>
                  </a:lnTo>
                  <a:lnTo>
                    <a:pt x="785" y="464"/>
                  </a:lnTo>
                  <a:lnTo>
                    <a:pt x="764" y="468"/>
                  </a:lnTo>
                  <a:lnTo>
                    <a:pt x="744" y="474"/>
                  </a:lnTo>
                  <a:lnTo>
                    <a:pt x="724" y="478"/>
                  </a:lnTo>
                  <a:lnTo>
                    <a:pt x="704" y="482"/>
                  </a:lnTo>
                  <a:lnTo>
                    <a:pt x="684" y="488"/>
                  </a:lnTo>
                  <a:lnTo>
                    <a:pt x="664" y="492"/>
                  </a:lnTo>
                  <a:lnTo>
                    <a:pt x="644" y="496"/>
                  </a:lnTo>
                  <a:lnTo>
                    <a:pt x="624" y="502"/>
                  </a:lnTo>
                  <a:lnTo>
                    <a:pt x="604" y="506"/>
                  </a:lnTo>
                  <a:lnTo>
                    <a:pt x="583" y="511"/>
                  </a:lnTo>
                  <a:lnTo>
                    <a:pt x="563" y="516"/>
                  </a:lnTo>
                  <a:lnTo>
                    <a:pt x="543" y="521"/>
                  </a:lnTo>
                  <a:lnTo>
                    <a:pt x="532" y="525"/>
                  </a:lnTo>
                  <a:lnTo>
                    <a:pt x="519" y="529"/>
                  </a:lnTo>
                  <a:lnTo>
                    <a:pt x="506" y="532"/>
                  </a:lnTo>
                  <a:lnTo>
                    <a:pt x="494" y="534"/>
                  </a:lnTo>
                  <a:lnTo>
                    <a:pt x="481" y="537"/>
                  </a:lnTo>
                  <a:lnTo>
                    <a:pt x="469" y="540"/>
                  </a:lnTo>
                  <a:lnTo>
                    <a:pt x="456" y="544"/>
                  </a:lnTo>
                  <a:lnTo>
                    <a:pt x="444" y="547"/>
                  </a:lnTo>
                  <a:lnTo>
                    <a:pt x="423" y="551"/>
                  </a:lnTo>
                  <a:lnTo>
                    <a:pt x="401" y="555"/>
                  </a:lnTo>
                  <a:lnTo>
                    <a:pt x="381" y="560"/>
                  </a:lnTo>
                  <a:lnTo>
                    <a:pt x="359" y="565"/>
                  </a:lnTo>
                  <a:lnTo>
                    <a:pt x="339" y="570"/>
                  </a:lnTo>
                  <a:lnTo>
                    <a:pt x="319" y="575"/>
                  </a:lnTo>
                  <a:lnTo>
                    <a:pt x="298" y="580"/>
                  </a:lnTo>
                  <a:lnTo>
                    <a:pt x="278" y="586"/>
                  </a:lnTo>
                  <a:lnTo>
                    <a:pt x="257" y="591"/>
                  </a:lnTo>
                  <a:lnTo>
                    <a:pt x="237" y="596"/>
                  </a:lnTo>
                  <a:lnTo>
                    <a:pt x="216" y="602"/>
                  </a:lnTo>
                  <a:lnTo>
                    <a:pt x="196" y="607"/>
                  </a:lnTo>
                  <a:lnTo>
                    <a:pt x="176" y="611"/>
                  </a:lnTo>
                  <a:lnTo>
                    <a:pt x="154" y="617"/>
                  </a:lnTo>
                  <a:lnTo>
                    <a:pt x="134" y="621"/>
                  </a:lnTo>
                  <a:lnTo>
                    <a:pt x="112" y="625"/>
                  </a:lnTo>
                  <a:lnTo>
                    <a:pt x="98" y="629"/>
                  </a:lnTo>
                  <a:lnTo>
                    <a:pt x="85" y="632"/>
                  </a:lnTo>
                  <a:lnTo>
                    <a:pt x="71" y="635"/>
                  </a:lnTo>
                  <a:lnTo>
                    <a:pt x="56" y="638"/>
                  </a:lnTo>
                  <a:lnTo>
                    <a:pt x="42" y="643"/>
                  </a:lnTo>
                  <a:lnTo>
                    <a:pt x="29" y="646"/>
                  </a:lnTo>
                  <a:lnTo>
                    <a:pt x="15" y="649"/>
                  </a:lnTo>
                  <a:lnTo>
                    <a:pt x="0" y="652"/>
                  </a:lnTo>
                  <a:lnTo>
                    <a:pt x="0" y="216"/>
                  </a:lnTo>
                  <a:lnTo>
                    <a:pt x="5" y="186"/>
                  </a:lnTo>
                  <a:lnTo>
                    <a:pt x="33" y="180"/>
                  </a:lnTo>
                  <a:lnTo>
                    <a:pt x="61" y="174"/>
                  </a:lnTo>
                  <a:lnTo>
                    <a:pt x="88" y="168"/>
                  </a:lnTo>
                  <a:lnTo>
                    <a:pt x="117" y="162"/>
                  </a:lnTo>
                  <a:lnTo>
                    <a:pt x="144" y="156"/>
                  </a:lnTo>
                  <a:lnTo>
                    <a:pt x="171" y="150"/>
                  </a:lnTo>
                  <a:lnTo>
                    <a:pt x="199" y="143"/>
                  </a:lnTo>
                  <a:lnTo>
                    <a:pt x="224" y="138"/>
                  </a:lnTo>
                  <a:lnTo>
                    <a:pt x="252" y="131"/>
                  </a:lnTo>
                  <a:lnTo>
                    <a:pt x="279" y="126"/>
                  </a:lnTo>
                  <a:lnTo>
                    <a:pt x="306" y="120"/>
                  </a:lnTo>
                  <a:lnTo>
                    <a:pt x="332" y="113"/>
                  </a:lnTo>
                  <a:lnTo>
                    <a:pt x="359" y="108"/>
                  </a:lnTo>
                  <a:lnTo>
                    <a:pt x="387" y="102"/>
                  </a:lnTo>
                  <a:lnTo>
                    <a:pt x="413" y="96"/>
                  </a:lnTo>
                  <a:lnTo>
                    <a:pt x="440" y="91"/>
                  </a:lnTo>
                  <a:lnTo>
                    <a:pt x="467" y="85"/>
                  </a:lnTo>
                  <a:lnTo>
                    <a:pt x="493" y="79"/>
                  </a:lnTo>
                  <a:lnTo>
                    <a:pt x="520" y="73"/>
                  </a:lnTo>
                  <a:lnTo>
                    <a:pt x="546" y="68"/>
                  </a:lnTo>
                  <a:lnTo>
                    <a:pt x="573" y="63"/>
                  </a:lnTo>
                  <a:lnTo>
                    <a:pt x="599" y="56"/>
                  </a:lnTo>
                  <a:lnTo>
                    <a:pt x="625" y="51"/>
                  </a:lnTo>
                  <a:lnTo>
                    <a:pt x="652" y="45"/>
                  </a:lnTo>
                  <a:lnTo>
                    <a:pt x="678" y="40"/>
                  </a:lnTo>
                  <a:lnTo>
                    <a:pt x="706" y="33"/>
                  </a:lnTo>
                  <a:lnTo>
                    <a:pt x="731" y="28"/>
                  </a:lnTo>
                  <a:lnTo>
                    <a:pt x="757" y="23"/>
                  </a:lnTo>
                  <a:lnTo>
                    <a:pt x="785" y="17"/>
                  </a:lnTo>
                  <a:lnTo>
                    <a:pt x="810" y="11"/>
                  </a:lnTo>
                  <a:lnTo>
                    <a:pt x="838" y="6"/>
                  </a:lnTo>
                  <a:lnTo>
                    <a:pt x="864" y="0"/>
                  </a:lnTo>
                  <a:lnTo>
                    <a:pt x="869" y="14"/>
                  </a:lnTo>
                  <a:close/>
                </a:path>
              </a:pathLst>
            </a:custGeom>
            <a:solidFill>
              <a:srgbClr val="afaf5e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144880" y="4912920"/>
              <a:ext cx="308880" cy="11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29840" y="4930920"/>
              <a:ext cx="143640" cy="6300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7513560" y="5546880"/>
            <a:ext cx="9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alletiz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6284880" y="2552400"/>
            <a:ext cx="1920240" cy="1919880"/>
            <a:chOff x="6284880" y="2552400"/>
            <a:chExt cx="1920240" cy="1919880"/>
          </a:xfrm>
        </p:grpSpPr>
        <p:sp>
          <p:nvSpPr>
            <p:cNvPr id="289" name=""/>
            <p:cNvSpPr/>
            <p:nvPr/>
          </p:nvSpPr>
          <p:spPr>
            <a:xfrm flipV="1" rot="18960000">
              <a:off x="6853680" y="3143880"/>
              <a:ext cx="779400" cy="772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9"/>
                  </a:moveTo>
                  <a:arcTo wR="10800" hR="10800" stAng="-10786854" swAng="53726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9"/>
                  </a:moveTo>
                  <a:arcTo wR="10800" hR="10800" stAng="-10786854" swAng="5372617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 rot="18960000">
              <a:off x="6757920" y="3044520"/>
              <a:ext cx="977040" cy="96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8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8598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 rot="18960000">
              <a:off x="6660000" y="2940480"/>
              <a:ext cx="1170360" cy="1154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2"/>
                  </a:moveTo>
                  <a:arcTo wR="10800" hR="10800" stAng="-10791196" swAng="538171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2"/>
                  </a:moveTo>
                  <a:arcTo wR="10800" hR="10800" stAng="-10791196" swAng="5381712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 rot="18960000">
              <a:off x="6562440" y="2836440"/>
              <a:ext cx="1364760" cy="135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70" swAng="538433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70" swAng="5384333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25680" y="2104920"/>
            <a:ext cx="567000" cy="2367000"/>
          </a:xfrm>
          <a:custGeom>
            <a:avLst/>
            <a:gdLst>
              <a:gd name="textAreaLeft" fmla="*/ 75960 w 567000"/>
              <a:gd name="textAreaRight" fmla="*/ 491040 w 567000"/>
              <a:gd name="textAreaTop" fmla="*/ 414000 h 2367000"/>
              <a:gd name="textAreaBottom" fmla="*/ 1716120 h 2367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796440" y="3487680"/>
            <a:ext cx="883440" cy="307080"/>
          </a:xfrm>
          <a:prstGeom prst="rect">
            <a:avLst/>
          </a:prstGeom>
          <a:solidFill>
            <a:srgbClr val="cc99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ad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202360" y="1595520"/>
            <a:ext cx="1116000" cy="520200"/>
          </a:xfrm>
          <a:prstGeom prst="rect">
            <a:avLst/>
          </a:prstGeom>
          <a:solidFill>
            <a:srgbClr val="ff99cc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ools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tegrato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043600" y="4998600"/>
            <a:ext cx="498240" cy="46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825320" y="2100240"/>
            <a:ext cx="107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Case/Pall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Aggreg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441240" y="2955960"/>
            <a:ext cx="91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EPC Co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to Ta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786120" y="3724200"/>
            <a:ext cx="1000080" cy="773280"/>
          </a:xfrm>
          <a:prstGeom prst="cube">
            <a:avLst>
              <a:gd name="adj" fmla="val 7282"/>
            </a:avLst>
          </a:prstGeom>
          <a:gradFill rotWithShape="0">
            <a:gsLst>
              <a:gs pos="0">
                <a:srgbClr val="c0c0c0"/>
              </a:gs>
              <a:gs pos="100000">
                <a:srgbClr val="e8e8e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25720" y="3894120"/>
            <a:ext cx="871560" cy="520200"/>
          </a:xfrm>
          <a:prstGeom prst="rect">
            <a:avLst/>
          </a:prstGeom>
          <a:solidFill>
            <a:srgbClr val="cc99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ad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3160800" y="3089160"/>
            <a:ext cx="1917360" cy="1917360"/>
            <a:chOff x="3160800" y="3089160"/>
            <a:chExt cx="1917360" cy="1917360"/>
          </a:xfrm>
        </p:grpSpPr>
        <p:sp>
          <p:nvSpPr>
            <p:cNvPr id="302" name=""/>
            <p:cNvSpPr/>
            <p:nvPr/>
          </p:nvSpPr>
          <p:spPr>
            <a:xfrm flipV="1" rot="18960000">
              <a:off x="3729600" y="3679200"/>
              <a:ext cx="777240" cy="772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9"/>
                  </a:moveTo>
                  <a:arcTo wR="10800" hR="10800" stAng="-10786854" swAng="53726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9"/>
                  </a:moveTo>
                  <a:arcTo wR="10800" hR="10800" stAng="-10786854" swAng="5372617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 rot="18960000">
              <a:off x="3634560" y="3580200"/>
              <a:ext cx="973440" cy="96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8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8598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 rot="18960000">
              <a:off x="3535920" y="3476880"/>
              <a:ext cx="1167480" cy="115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2"/>
                  </a:moveTo>
                  <a:arcTo wR="10800" hR="10800" stAng="-10791196" swAng="538171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2"/>
                  </a:moveTo>
                  <a:arcTo wR="10800" hR="10800" stAng="-10791196" swAng="5381712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 rot="18960000">
              <a:off x="3438720" y="3372120"/>
              <a:ext cx="1361160" cy="1350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70" swAng="538433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70" swAng="5384333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 rot="3348000">
            <a:off x="5432040" y="2757240"/>
            <a:ext cx="404640" cy="1592280"/>
          </a:xfrm>
          <a:prstGeom prst="upArrow">
            <a:avLst>
              <a:gd name="adj1" fmla="val 47870"/>
              <a:gd name="adj2" fmla="val 169116"/>
            </a:avLst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185440" y="2878200"/>
            <a:ext cx="81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Track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Inf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87360" y="3624120"/>
            <a:ext cx="84240" cy="79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380880" y="685800"/>
            <a:ext cx="87631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PC Vision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Information from the tag is posted to inter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vers at the plant production line.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92120" y="1401840"/>
            <a:ext cx="626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1144440"/>
            <a:ext cx="33804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704880" y="1828800"/>
            <a:ext cx="7840800" cy="3593880"/>
            <a:chOff x="704880" y="1828800"/>
            <a:chExt cx="7840800" cy="3593880"/>
          </a:xfrm>
        </p:grpSpPr>
        <p:sp>
          <p:nvSpPr>
            <p:cNvPr id="313" name=""/>
            <p:cNvSpPr/>
            <p:nvPr/>
          </p:nvSpPr>
          <p:spPr>
            <a:xfrm>
              <a:off x="704880" y="2071440"/>
              <a:ext cx="7840800" cy="3351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70840" y="1860840"/>
              <a:ext cx="5646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400"/>
              </a:b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15" name="aboutthetech_PML" descr=""/>
            <p:cNvPicPr/>
            <p:nvPr/>
          </p:nvPicPr>
          <p:blipFill>
            <a:blip r:embed="rId1"/>
            <a:stretch/>
          </p:blipFill>
          <p:spPr>
            <a:xfrm>
              <a:off x="5104080" y="2374560"/>
              <a:ext cx="3278160" cy="25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4388400" y="3050640"/>
              <a:ext cx="585360" cy="1217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7889f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509840" y="5010120"/>
              <a:ext cx="211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Production Lin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638320" y="5002920"/>
              <a:ext cx="224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Internet Data Fil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99280" y="1828800"/>
              <a:ext cx="5650920" cy="274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Verdana"/>
                </a:rPr>
                <a:t>  </a:t>
              </a:r>
              <a:r>
                <a:rPr b="1" lang="en-US" sz="25000" spc="-1" strike="noStrike">
                  <a:solidFill>
                    <a:srgbClr val="ffffff"/>
                  </a:solidFill>
                  <a:latin typeface="Verdana"/>
                </a:rPr>
                <a:t> </a:t>
              </a:r>
              <a:r>
                <a:rPr b="1" lang="en-US" sz="1000" spc="-1" strike="noStrike">
                  <a:solidFill>
                    <a:srgbClr val="ffffff"/>
                  </a:solidFill>
                  <a:latin typeface="Verdana"/>
                </a:rPr>
                <a:t>                                                                                         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20" name="aboutthetech_addingcases" descr=""/>
            <p:cNvPicPr/>
            <p:nvPr/>
          </p:nvPicPr>
          <p:blipFill>
            <a:blip r:embed="rId2"/>
            <a:stretch/>
          </p:blipFill>
          <p:spPr>
            <a:xfrm>
              <a:off x="979560" y="2370240"/>
              <a:ext cx="3292920" cy="2574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Braggs, James A.</cp:lastModifiedBy>
  <dcterms:modified xsi:type="dcterms:W3CDTF">2004-08-11T13:52:35Z</dcterms:modified>
  <cp:revision>876</cp:revision>
  <dc:subject/>
  <dc:title>IBM Software Group</dc:title>
</cp:coreProperties>
</file>