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59360" y="6324480"/>
            <a:ext cx="15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Corporation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0" y="6248520"/>
            <a:ext cx="1768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&amp; Messa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8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mailto:lrkandel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91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13960" y="523296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914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90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Ka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523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DI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 Data Interchange in C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ple EDI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*00*          *00*          *ZZ*MMT0001        *ZZ*D53T   KIRKWOX *001003*1150*U*00200*000001100*0*T*: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*PO*DEMO850CL*  *001003*1150*2070*X*00200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*850*3078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***PO111111-A*DIREL 2.1**99120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*BT*KINGOFTHEBEA*01*054412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66*LB***BP*98876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212*LB***BP*82348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15*LB***BP*91436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15*GA***BP*0886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0150*LB***BP*91424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33*LB***BP*0881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T*0*15449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*11*3078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ransaction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*1*2070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oup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A*1*000001100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nterchange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494" idx="3"/>
            <a:endCxn id="494" idx="3"/>
          </p:cNvCxnSpPr>
          <p:nvPr/>
        </p:nvCxnSpPr>
        <p:spPr>
          <a:xfrm>
            <a:off x="8457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685800" y="2743200"/>
            <a:ext cx="75438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5257800"/>
            <a:ext cx="13716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057400" y="5410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16292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895480"/>
            <a:ext cx="38862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5105520"/>
            <a:ext cx="9144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3124080"/>
            <a:ext cx="1143000" cy="152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4952880"/>
            <a:ext cx="914400" cy="152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3276720"/>
            <a:ext cx="3048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60020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600200" y="5029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5724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828800" y="3200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57164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4864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EDI Transactions Per Day Using WDI in C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cking company   10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tribution company   16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ilway   90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ar company   410,000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partment of the U.S. government   3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irline   550,000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3580920"/>
            <a:ext cx="7391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CICS LINK PROGRAM (‘EDIFFUT’) COMMAREA(FFUS) LENGTH(2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CICS START TRANSID(‘EDIB’) FROM(FFUS) LENGTH(2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CICS WRITEQ TD QUEUE(name) FROM(FFUS) LENGTH(2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74880" y="1743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240" y="1800360"/>
            <a:ext cx="744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translation is invoked by way of the WDI Ut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DI Utility is a command-based interface.  It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commands that tell WDI what to do.  The W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is invoked within user-written CIC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74880" y="1743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154160" y="4114800"/>
          <a:ext cx="196992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4114800"/>
                    <a:ext cx="1969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1120680" y="2084400"/>
          <a:ext cx="188604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0680" y="2084400"/>
                    <a:ext cx="18860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3747960" y="3024360"/>
          <a:ext cx="1886040" cy="12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7960" y="3024360"/>
                    <a:ext cx="188604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6415200" y="3003480"/>
          <a:ext cx="1885680" cy="12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15200" y="3003480"/>
                    <a:ext cx="18856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3124080" y="2666880"/>
            <a:ext cx="533520" cy="838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200400" y="3733560"/>
            <a:ext cx="45720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36576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13160" y="4533840"/>
            <a:ext cx="458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EC CICS LINK PROGRAM (‘EDIFFU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EC CICS START TRANSID(‘EDIB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EC CICS WRITEQ T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13160" y="400356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685800" y="3276720"/>
          <a:ext cx="335268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3526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763560" y="1981080"/>
            <a:ext cx="59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 may reside in its own CICS reg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3809880"/>
            <a:ext cx="533160" cy="457200"/>
          </a:xfrm>
          <a:prstGeom prst="leftRightArrow">
            <a:avLst>
              <a:gd name="adj1" fmla="val 50000"/>
              <a:gd name="adj2" fmla="val 23215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876920" y="3276720"/>
          <a:ext cx="3352680" cy="15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33526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513160" y="400356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3400" y="1981080"/>
            <a:ext cx="6905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hat is passed to the WDI Ut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FFUS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containing data to be trans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FORM command telling the Utility what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hat the WDI Utility passes ba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codes within the FFUS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containing the transl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containing error and audi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file containing the PERFORM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mmand tells the Utility what to do (i.e. translate to standard or translate to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file where error messages are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a subsequent program or CICS transaction to be executed after translation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74880" y="1743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120" y="1749600"/>
            <a:ext cx="72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ata passed within the FFUS block to the Ut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391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codes from the trans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file containing transla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acknowledgment retur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file containing functiona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74880" y="1743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10560" y="1749600"/>
            <a:ext cx="742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ata passed back from the Utility within the FF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voking W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1066680" y="3276720"/>
          <a:ext cx="188604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18860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"/>
          <p:cNvGraphicFramePr/>
          <p:nvPr/>
        </p:nvGraphicFramePr>
        <p:xfrm>
          <a:off x="6705720" y="4267080"/>
          <a:ext cx="18856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18856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74880" y="1743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1066680" y="1752480"/>
          <a:ext cx="1886040" cy="122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8860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"/>
          <p:cNvGraphicFramePr/>
          <p:nvPr/>
        </p:nvGraphicFramePr>
        <p:xfrm>
          <a:off x="6705720" y="2133720"/>
          <a:ext cx="1885680" cy="12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2133720"/>
                    <a:ext cx="18856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"/>
          <p:cNvGraphicFramePr/>
          <p:nvPr/>
        </p:nvGraphicFramePr>
        <p:xfrm>
          <a:off x="1066680" y="4800600"/>
          <a:ext cx="1886040" cy="12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4800600"/>
                    <a:ext cx="18860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"/>
          <p:cNvGraphicFramePr/>
          <p:nvPr/>
        </p:nvGraphicFramePr>
        <p:xfrm>
          <a:off x="3809880" y="2514600"/>
          <a:ext cx="2040120" cy="269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2514600"/>
                    <a:ext cx="204012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"/>
          <p:cNvGraphicFramePr/>
          <p:nvPr/>
        </p:nvGraphicFramePr>
        <p:xfrm>
          <a:off x="4038480" y="4038480"/>
          <a:ext cx="1600200" cy="103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4038480"/>
                    <a:ext cx="16002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4267080" y="2819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48120" y="2438280"/>
            <a:ext cx="68580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3048120" y="3580920"/>
            <a:ext cx="6094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048120" y="3657240"/>
            <a:ext cx="685800" cy="1676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019920" y="2742840"/>
            <a:ext cx="6094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43600" y="3200400"/>
            <a:ext cx="68580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800600" y="22093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048120" y="2209680"/>
            <a:ext cx="1752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1120" y="18288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133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PERFORM Comm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13160" y="400356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47080" y="1371600"/>
            <a:ext cx="7467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bound (Send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RANSLATE TO STANDARD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ENVELOPE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SEND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bound (Receive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RECEIVE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DEENVELOPE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RANSLATE TO APPLICATION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formation (Any-to-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RANSFORM W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WebSphere Data Interchange/C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gards to EDI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how WDI/CICS gets invoked to translat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features specific to WDI/C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event-driven, real-tim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ML translation in C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2240" y="548640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B15 WebSphere Data Interchange – Technical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PERFORM Comm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13160" y="400356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1828800"/>
            <a:ext cx="79250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ranslate application data to EDI standard data and wrap an ISA/IEA around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RANSLATE AND ENVELOPE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FILE(appfile) RAWFMTID(adfname) FILEID(std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wrap the ISA/IEA and translate the EDI standard data to application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DEENVELOPE AND TRANSLATE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ID(stdfile) RAWDATA(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0948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asic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2133720" y="1676520"/>
          <a:ext cx="50292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50292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9" name=""/>
          <p:cNvSpPr/>
          <p:nvPr/>
        </p:nvSpPr>
        <p:spPr>
          <a:xfrm>
            <a:off x="3343320" y="190512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2590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334120" y="259092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133720" y="2895480"/>
          <a:ext cx="497340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95480"/>
                    <a:ext cx="4973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4" name=""/>
          <p:cNvGraphicFramePr/>
          <p:nvPr/>
        </p:nvGraphicFramePr>
        <p:xfrm>
          <a:off x="2133720" y="5257800"/>
          <a:ext cx="497340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257800"/>
                    <a:ext cx="4973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6" name=""/>
          <p:cNvSpPr/>
          <p:nvPr/>
        </p:nvSpPr>
        <p:spPr>
          <a:xfrm>
            <a:off x="3118680" y="304812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2133720" y="4114800"/>
          <a:ext cx="497340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4114800"/>
                    <a:ext cx="4973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"/>
          <p:cNvSpPr/>
          <p:nvPr/>
        </p:nvSpPr>
        <p:spPr>
          <a:xfrm>
            <a:off x="1981080" y="4191120"/>
            <a:ext cx="52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Communications (Expedite/C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MQ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1080" y="5257800"/>
            <a:ext cx="52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s (IE) or MQ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ng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276720" y="380988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6720" y="50292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34120" y="4952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334120" y="3809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600200" y="510552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600200" y="40384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1600200"/>
            <a:ext cx="0" cy="3505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696080" y="16002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96080" y="1600200"/>
            <a:ext cx="0" cy="3505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00200" y="1600200"/>
            <a:ext cx="6095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asic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13160" y="400356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990720" y="3517920"/>
          <a:ext cx="1726920" cy="24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17920"/>
                    <a:ext cx="172692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2057400" y="2863800"/>
          <a:ext cx="136044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863800"/>
                    <a:ext cx="1360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9" name=""/>
          <p:cNvGraphicFramePr/>
          <p:nvPr/>
        </p:nvGraphicFramePr>
        <p:xfrm>
          <a:off x="5576760" y="2863800"/>
          <a:ext cx="1281240" cy="6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6760" y="2863800"/>
                    <a:ext cx="12812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"/>
          <p:cNvGraphicFramePr/>
          <p:nvPr/>
        </p:nvGraphicFramePr>
        <p:xfrm>
          <a:off x="3476520" y="2590920"/>
          <a:ext cx="2009880" cy="16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6520" y="2590920"/>
                    <a:ext cx="20098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"/>
          <p:cNvGraphicFramePr/>
          <p:nvPr/>
        </p:nvGraphicFramePr>
        <p:xfrm>
          <a:off x="6248520" y="3581280"/>
          <a:ext cx="1719000" cy="216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581280"/>
                    <a:ext cx="171900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5" name=""/>
          <p:cNvGraphicFramePr/>
          <p:nvPr/>
        </p:nvGraphicFramePr>
        <p:xfrm>
          <a:off x="914400" y="1447920"/>
          <a:ext cx="1752480" cy="92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1447920"/>
                    <a:ext cx="17524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8077320" y="2081160"/>
          <a:ext cx="795240" cy="509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77320" y="2081160"/>
                    <a:ext cx="7952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6934320" y="2590920"/>
          <a:ext cx="81108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2590920"/>
                    <a:ext cx="811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7620120" y="1371600"/>
          <a:ext cx="822240" cy="530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1371600"/>
                    <a:ext cx="8222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3" name=""/>
          <p:cNvGraphicFramePr/>
          <p:nvPr/>
        </p:nvGraphicFramePr>
        <p:xfrm>
          <a:off x="8001000" y="2819520"/>
          <a:ext cx="795240" cy="509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001000" y="2819520"/>
                    <a:ext cx="7952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5" name=""/>
          <p:cNvGraphicFramePr/>
          <p:nvPr/>
        </p:nvGraphicFramePr>
        <p:xfrm>
          <a:off x="6705720" y="1905120"/>
          <a:ext cx="793800" cy="509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5720" y="1905120"/>
                    <a:ext cx="7938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Transaction S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DB2 tables containing EDI transa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ed by a unique timestamp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controlled by options set in the Application Defaults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documents that translated success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documents that failed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 imag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d by Application Defaults profile option (see abov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Transaction S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ound (Send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RANSLATE TO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RANSLATE AND 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bound (Receive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DE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DEENVELOPE AND TRANS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ormation (Any-to-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37360" y="2057400"/>
            <a:ext cx="62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hat puts EDI transactions into the St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Transaction S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ound (Send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ENVE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REENVE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ENVELOPE AND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bound (Receive 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TRANSLATE TO 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RETRANSLATE TO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ormation (Any-to-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RANSFORM WHERE INTYPE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38440" y="205740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hat can be done with EDI transactions in the St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Transaction S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3429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 TRANSLAT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 TRANS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ELOP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TO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 TRANS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 TRANSLAT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7360" y="205740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ransaction Store stat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419720" y="2666880"/>
            <a:ext cx="4114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PTED BY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ED BY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 ACCE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X ACCEPTED WITH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Transaction S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tore maintenance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HOLD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PURG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REMOVE TRANSAC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tore query comm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QUERY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PRINT TRANSACTION DETAIL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translation activity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TRANSACTION ACTIVITY DATA EXTRAC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TRADING PARTNER PROFILE DATA EXTRAC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5360" y="182880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ther Transaction Store PERFORM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DI Objects Involved in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513160" y="4003560"/>
            <a:ext cx="3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6" name=""/>
          <p:cNvGraphicFramePr/>
          <p:nvPr/>
        </p:nvGraphicFramePr>
        <p:xfrm>
          <a:off x="6172200" y="4572000"/>
          <a:ext cx="15699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572000"/>
                    <a:ext cx="1569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8" name=""/>
          <p:cNvGraphicFramePr/>
          <p:nvPr/>
        </p:nvGraphicFramePr>
        <p:xfrm>
          <a:off x="1219320" y="1905120"/>
          <a:ext cx="1569960" cy="93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05120"/>
                    <a:ext cx="15699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0" name=""/>
          <p:cNvGraphicFramePr/>
          <p:nvPr/>
        </p:nvGraphicFramePr>
        <p:xfrm>
          <a:off x="1219320" y="3200400"/>
          <a:ext cx="156996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00400"/>
                    <a:ext cx="1569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2" name=""/>
          <p:cNvGraphicFramePr/>
          <p:nvPr/>
        </p:nvGraphicFramePr>
        <p:xfrm>
          <a:off x="3746520" y="3097080"/>
          <a:ext cx="160488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46520" y="3097080"/>
                    <a:ext cx="160488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4" name=""/>
          <p:cNvGraphicFramePr/>
          <p:nvPr/>
        </p:nvGraphicFramePr>
        <p:xfrm>
          <a:off x="1219320" y="4495680"/>
          <a:ext cx="1569960" cy="93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4495680"/>
                    <a:ext cx="1569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6" name=""/>
          <p:cNvGraphicFramePr/>
          <p:nvPr/>
        </p:nvGraphicFramePr>
        <p:xfrm>
          <a:off x="3763800" y="4546440"/>
          <a:ext cx="1570320" cy="93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3800" y="4546440"/>
                    <a:ext cx="15703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8" name=""/>
          <p:cNvGraphicFramePr/>
          <p:nvPr/>
        </p:nvGraphicFramePr>
        <p:xfrm>
          <a:off x="6172200" y="1905120"/>
          <a:ext cx="1569960" cy="93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905120"/>
                    <a:ext cx="15699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0" name=""/>
          <p:cNvGraphicFramePr/>
          <p:nvPr/>
        </p:nvGraphicFramePr>
        <p:xfrm>
          <a:off x="6172200" y="3200400"/>
          <a:ext cx="1569960" cy="93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3200400"/>
                    <a:ext cx="15699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2" name=""/>
          <p:cNvSpPr/>
          <p:nvPr/>
        </p:nvSpPr>
        <p:spPr>
          <a:xfrm>
            <a:off x="1206360" y="563868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ll of these are maintained/generated in the WDI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3" name=""/>
          <p:cNvGraphicFramePr/>
          <p:nvPr/>
        </p:nvGraphicFramePr>
        <p:xfrm>
          <a:off x="3763800" y="1905120"/>
          <a:ext cx="1570320" cy="939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63800" y="1905120"/>
                    <a:ext cx="1570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5" name=""/>
          <p:cNvSpPr/>
          <p:nvPr/>
        </p:nvSpPr>
        <p:spPr>
          <a:xfrm flipV="1">
            <a:off x="2895480" y="2437920"/>
            <a:ext cx="76212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95480" y="23623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895480" y="2437920"/>
            <a:ext cx="68580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Pro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elope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Series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De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bSphere Data Interchan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480" y="2057400"/>
            <a:ext cx="7531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 is part of the IBM WebSphere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translator (transforms data from on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developed in 1989 by IBM as an 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or (batch mode MV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evolved to accommodate the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of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Real tim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bedded in CIC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processing via ED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re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dite/CICS interface to Information Exchange 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Series interface via MQ trigg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erformance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-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initialization and termina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work load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I/O by holding frequently-accessed data in an MVS data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CS encourages Multiple Concurrent 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DI has resource conten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T DB2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Q/DEQ to serialize selecte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 queues can be dynamically, uniquely na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CS Security/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Reentr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y level / Syncpoin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2 Transaction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records for transaction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of translat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QSeries 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Added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(TS queues, TD queues, VSAM ES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 queues can be designated Main or Auxili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ng Partner control level of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al trading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trading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ges or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apability for user-designed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service for canned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capability for operationa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logging by appl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/Import of WDI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curr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instances of the translator can run at the same time (optimally around 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the nature of CICS transactions is that they are short and 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ct from batch jobs which may be very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DI’s Transaction Store, Event Log, and Profiles are D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-DI can be used to manage concurrency and improv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Sequential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ata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acknowledgmen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files (error/audit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Sequential File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y Storage Queues (TSQ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for files containing standar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ed prior to translation (except standard data TSQs, functional acknowledgment TSQs, and application TSQ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UNIQUE will generate uniqu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ent Data Queues (TDQ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intra and extra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DS VSAM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Series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Single Th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me-name sequential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databas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T Lock is used to contro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utbound translations involving the same trading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-time translator (Server compon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data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n Windows, AIX, z/OS (batch mode and C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GUI interface (Client compon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reate maps, define data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used for administration, such as trading partner management and profile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mmit Sc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 WDI/CICS uses Envelope Level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changed to Transaction Level Recovery in the PERFORM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or not WDI should SYNCPOINT at all can be indicated in the FFUS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ften desirable for the caller to manage SYNCPOINTs (thus ensuring WDI falls within the caller’s unit-of-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ICS Trans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A – View Event Log and Transaction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B – WDI Utility (the trans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E – Insert Event Log e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M – Run the Message Broker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y-to-any translatio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Q – MQSeries continuous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W – Execute adhoc PERFORM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X – Acquire Transaction Store handl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duplicate inbound envel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mmun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mmunications per se in W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dite/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R1 for rece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T1 for s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IS and IE v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I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a natural CICS LINK interface where a Network Program or Message Handler can be specifi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-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degree of overhead involved in starting up and terminating a WDI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occurs each time a PERFORM command is iss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-DI eliminates thi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-DI requires that a “driver” program be written to 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 of WDI sessions, and then distribute work to each session as work arrives.  These sessions stay “alive” and are not terminated until appropri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8" name=""/>
          <p:cNvGraphicFramePr/>
          <p:nvPr/>
        </p:nvGraphicFramePr>
        <p:xfrm>
          <a:off x="7391520" y="990720"/>
          <a:ext cx="12240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990720"/>
                    <a:ext cx="1224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-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82800" y="182880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ormal translation (not Hot-DI) involves a 3-step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139400" y="27432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961440" y="27432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399360" y="27432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914400" y="3581280"/>
          <a:ext cx="58672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58672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9" name=""/>
          <p:cNvSpPr/>
          <p:nvPr/>
        </p:nvSpPr>
        <p:spPr>
          <a:xfrm>
            <a:off x="1447560" y="36576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&amp;V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Control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342320" y="3657600"/>
            <a:ext cx="18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Event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782400" y="3695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-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987840" y="18288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ot-DI transl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139400" y="27432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961440" y="27432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399360" y="27432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9" name=""/>
          <p:cNvGraphicFramePr/>
          <p:nvPr/>
        </p:nvGraphicFramePr>
        <p:xfrm>
          <a:off x="914400" y="3581280"/>
          <a:ext cx="58672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58672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1" name=""/>
          <p:cNvSpPr/>
          <p:nvPr/>
        </p:nvSpPr>
        <p:spPr>
          <a:xfrm>
            <a:off x="1447560" y="3657600"/>
            <a:ext cx="202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Pro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&amp;V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Control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782400" y="3695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3" name=""/>
          <p:cNvGraphicFramePr/>
          <p:nvPr/>
        </p:nvGraphicFramePr>
        <p:xfrm>
          <a:off x="4343400" y="3581280"/>
          <a:ext cx="198108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581280"/>
                    <a:ext cx="1981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"/>
          <p:cNvSpPr/>
          <p:nvPr/>
        </p:nvSpPr>
        <p:spPr>
          <a:xfrm>
            <a:off x="4585320" y="3962520"/>
            <a:ext cx="165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Event 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-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initialization and termination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benefit comes when multiple Hot-DI sessions are a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s translation concurrency and overall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useful when processing large volumes of small EDI transactions being received and sent to many different tra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-DI is enabled using API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0" name=""/>
          <p:cNvGraphicFramePr/>
          <p:nvPr/>
        </p:nvGraphicFramePr>
        <p:xfrm>
          <a:off x="7086600" y="4191120"/>
          <a:ext cx="12240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191120"/>
                    <a:ext cx="12240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tility Versus A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tility is invoked to run the translator via a PERFORM command and a LINK or START to the Utility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most common way to run the trans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I exists that gives more granularity to the transl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omplicated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direct calls to various WDI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Director (initialization and ter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-DI actually involves using a pseud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written CICS programs – like user ex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rograms that are passed control at certain points in the transl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DI Utility is invoked asynchronously (EXEC CICS START TRANSID(‘EDIB’) or Continuous Receive is used, response programs are an essential part of the complete processing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where you need to know the outcome of WDI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hree types of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level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Transaction level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Receive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3581280"/>
            <a:ext cx="1620720" cy="871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384012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4729320"/>
            <a:ext cx="167616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7800" y="4830840"/>
            <a:ext cx="162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-orien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xe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mma-d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3560" y="537696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2478240"/>
            <a:ext cx="164448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2773440"/>
            <a:ext cx="53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3657600"/>
            <a:ext cx="1882800" cy="703440"/>
          </a:xfrm>
          <a:custGeom>
            <a:avLst/>
            <a:gdLst/>
            <a:ahLst/>
            <a:rect l="l" t="t" r="r" b="b"/>
            <a:pathLst>
              <a:path w="3557" h="1327">
                <a:moveTo>
                  <a:pt x="0" y="664"/>
                </a:moveTo>
                <a:lnTo>
                  <a:pt x="38" y="510"/>
                </a:lnTo>
                <a:lnTo>
                  <a:pt x="85" y="440"/>
                </a:lnTo>
                <a:lnTo>
                  <a:pt x="151" y="375"/>
                </a:lnTo>
                <a:lnTo>
                  <a:pt x="326" y="262"/>
                </a:lnTo>
                <a:lnTo>
                  <a:pt x="555" y="167"/>
                </a:lnTo>
                <a:lnTo>
                  <a:pt x="823" y="96"/>
                </a:lnTo>
                <a:lnTo>
                  <a:pt x="1123" y="44"/>
                </a:lnTo>
                <a:lnTo>
                  <a:pt x="1445" y="13"/>
                </a:lnTo>
                <a:lnTo>
                  <a:pt x="1778" y="0"/>
                </a:lnTo>
                <a:lnTo>
                  <a:pt x="1941" y="2"/>
                </a:lnTo>
                <a:lnTo>
                  <a:pt x="2107" y="10"/>
                </a:lnTo>
                <a:lnTo>
                  <a:pt x="2430" y="41"/>
                </a:lnTo>
                <a:lnTo>
                  <a:pt x="2730" y="92"/>
                </a:lnTo>
                <a:lnTo>
                  <a:pt x="3001" y="165"/>
                </a:lnTo>
                <a:lnTo>
                  <a:pt x="3227" y="257"/>
                </a:lnTo>
                <a:lnTo>
                  <a:pt x="3404" y="372"/>
                </a:lnTo>
                <a:lnTo>
                  <a:pt x="3468" y="435"/>
                </a:lnTo>
                <a:lnTo>
                  <a:pt x="3517" y="506"/>
                </a:lnTo>
                <a:lnTo>
                  <a:pt x="3545" y="581"/>
                </a:lnTo>
                <a:lnTo>
                  <a:pt x="3557" y="664"/>
                </a:lnTo>
                <a:lnTo>
                  <a:pt x="3548" y="743"/>
                </a:lnTo>
                <a:lnTo>
                  <a:pt x="3519" y="818"/>
                </a:lnTo>
                <a:lnTo>
                  <a:pt x="3472" y="887"/>
                </a:lnTo>
                <a:lnTo>
                  <a:pt x="3406" y="953"/>
                </a:lnTo>
                <a:lnTo>
                  <a:pt x="3231" y="1066"/>
                </a:lnTo>
                <a:lnTo>
                  <a:pt x="3002" y="1161"/>
                </a:lnTo>
                <a:lnTo>
                  <a:pt x="2734" y="1232"/>
                </a:lnTo>
                <a:lnTo>
                  <a:pt x="2434" y="1284"/>
                </a:lnTo>
                <a:lnTo>
                  <a:pt x="2113" y="1315"/>
                </a:lnTo>
                <a:lnTo>
                  <a:pt x="1779" y="1327"/>
                </a:lnTo>
                <a:lnTo>
                  <a:pt x="1450" y="1318"/>
                </a:lnTo>
                <a:lnTo>
                  <a:pt x="1128" y="1287"/>
                </a:lnTo>
                <a:lnTo>
                  <a:pt x="827" y="1236"/>
                </a:lnTo>
                <a:lnTo>
                  <a:pt x="556" y="1163"/>
                </a:lnTo>
                <a:lnTo>
                  <a:pt x="330" y="1071"/>
                </a:lnTo>
                <a:lnTo>
                  <a:pt x="153" y="955"/>
                </a:lnTo>
                <a:lnTo>
                  <a:pt x="89" y="893"/>
                </a:lnTo>
                <a:lnTo>
                  <a:pt x="41" y="822"/>
                </a:lnTo>
                <a:lnTo>
                  <a:pt x="12" y="747"/>
                </a:lnTo>
                <a:lnTo>
                  <a:pt x="0" y="664"/>
                </a:lnTo>
                <a:close/>
              </a:path>
            </a:pathLst>
          </a:custGeom>
          <a:solidFill>
            <a:srgbClr val="0098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5160" y="387036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3693960"/>
            <a:ext cx="1620720" cy="871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395280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4842000"/>
            <a:ext cx="167616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494352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-orien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xe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mma-d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590920"/>
            <a:ext cx="164448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2886120"/>
            <a:ext cx="53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3962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2253600">
            <a:off x="2916000" y="313380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9604400">
            <a:off x="2971800" y="487656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253600">
            <a:off x="5028840" y="487692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9735800">
            <a:off x="5105520" y="3200400"/>
            <a:ext cx="1066680" cy="76320"/>
          </a:xfrm>
          <a:prstGeom prst="rightArrow">
            <a:avLst>
              <a:gd name="adj1" fmla="val 47991"/>
              <a:gd name="adj2" fmla="val 21061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39625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9960" y="1752480"/>
            <a:ext cx="49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any-to-any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239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pecified as programs or CICS transaction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will EXEC CICS LINK PROGRAM (your-program) COMMAREA(FFUS) LENGTH(2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programs should not handle abends because WDI needs to free ENQs and other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will EXEC CICS START TRANSID(your-transaction) FROM(FFUS) LENGTH(2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US block obtained by doing an EXEC CICS RETRI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in the FFUS block when the WDI Utility is invoked with a PERFORM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control after the PERFORM command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837000" y="1971720"/>
            <a:ext cx="46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tility level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in the Application File field in the Receive Usage or Data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control after WDI translates each EDI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838800" y="197172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DI Transaction level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d in the Continuous Receiv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 control after the PERFORM command completes (or instead of any PERFORM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ontinuous Receives are real-time, background events, these programs are essential in order to know the outcome of transla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837000" y="19717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ontinuous Receive respons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on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Why a response program might be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ranslation return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cessary, invoke exception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ly process input and/or outpu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or rollback unit-of-work (if WDI is instructed not to issue SYNCPOINTs and the response program is linked 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receives and translates incoming EDI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s can be auto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A 270 (eligibility inquiry) is received.  A 271 (eligibility information) can be created, enveloped, and automatically sent 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ally receives network statu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dite/CICS and Information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WDI’s Transaction Stores stat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“Sent to network” to “Delivered by network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te/CICS and Inform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Expedite/C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program EDICRIN with commarea that includes name of Continuous Receive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DI Continuous Receiv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ailbox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 mailbox (account, user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Trading Partner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only this trading partner from mail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PERFORM command to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DEENVEL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DEENVELOPE AND 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 PROCESS NETWORK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e – Execute response program on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ommand additional key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response program to execute after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te/CIC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nd stop Continuous Rece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R (CICS transaction ID to start C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S (CICS transaction ID to stop C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ART CONTINUOUS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OP CONTINUOUS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Receive stat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REPORT CONTINUOUS RECEIVE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delivered to IE 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 automatically triggers Expedite/CICS transaction ISC2, which receives the message from 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C2 then starts transaction IMR1, which links to WDI (program EDICR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CRIN starts the WDI Utility transaction ED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tility does what is instructed in the Continuous Receiv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837360" y="197172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xpedite/CIC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Specificall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component of W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trans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ng in a mainframe CIC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Transaction Server for OS/390 Version 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Transaction Server for z/OS Version 2.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d 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2,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oolkit for XML trans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040" y="19051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his session (C69) deals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837360" y="197172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xpedite/CIC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609480" y="3276720"/>
            <a:ext cx="164484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837360" y="3429000"/>
            <a:ext cx="118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971800" y="2666880"/>
            <a:ext cx="5486400" cy="350532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2514600" y="38862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514600" y="35053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514600" y="3505320"/>
            <a:ext cx="30492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2362320" y="36576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3505320" y="2895480"/>
            <a:ext cx="1752480" cy="9144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dite/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867280" y="3124080"/>
            <a:ext cx="1752840" cy="9144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dite/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EDICR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5410080" y="350532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624852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943600" y="4724280"/>
            <a:ext cx="1752480" cy="9144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/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6" name=""/>
          <p:cNvGraphicFramePr/>
          <p:nvPr/>
        </p:nvGraphicFramePr>
        <p:xfrm>
          <a:off x="4168800" y="3962520"/>
          <a:ext cx="8668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8800" y="3962520"/>
                    <a:ext cx="8668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8" name=""/>
          <p:cNvSpPr/>
          <p:nvPr/>
        </p:nvSpPr>
        <p:spPr>
          <a:xfrm>
            <a:off x="3429000" y="5105520"/>
            <a:ext cx="1752480" cy="9144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 flipV="1">
            <a:off x="5105160" y="4572000"/>
            <a:ext cx="6858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 flipH="1">
            <a:off x="5257800" y="5105520"/>
            <a:ext cx="5335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324480" y="41911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DE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RANSL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QSeries Queues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profile name to MQ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queue name to CICSI.EDI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ontinuous Receive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profile name to C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 selection fields blank (i.e. Mail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838440" y="197172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QSerie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MQSeries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an initiation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QLOCAL(CICSI.TRIG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a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PROCESS(EDIPROC) APPLICID(EDIQ) APPLTYPE(C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he queue that will receiv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QLOCAL(CICSI.EDIRECEIVE) INITQ(CICSI.TRIGGER) PROCESS(EDIPROC) TRIGGER TRIGTYPE(FIRST) TRIGDATA(‘CRPROF=CRI  MQPROF=MQI’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838440" y="197172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QSerie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written to queue CICSI.EDI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DATA is written to queue CICSI.TRIG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CS trigger monitor (CKTI) starts application EDIQ, which is specified in process EDI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838440" y="197172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QSerie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838080" y="4800600"/>
            <a:ext cx="777240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DEFINE PROCESS(EDIPROC) APPLICID(EDIQ) APPLTYPE(C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DEFINE QLOCAL(CICSI.EDIRECEIVE) INITQ(CICSI.TRIG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PROCESS(EDIPROC) TRIGGER TRIGTYPE(FIR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RIGDATA(‘CRPROF=CRI  MQPROF=MQI’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Example 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Q does an EXEC CICS RETRIEVE to get the TRIG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Q then LINKs to EDICRIN with commarea EXIC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Receive profile name in EXIF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Series profile name in EXIMQ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838440" y="197172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QSerie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837720" y="25905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Example 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CRIN starts the WDI Utility transaction ED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FFUS block is passed along with a PERFORM command containing keywo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PNAME(MQSeries profile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"/>
              <a:buAutoNum type="alpha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tility does what is instructed in the Continuous Receive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ueue named in the MQSeries profile is process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838440" y="197172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QSerie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Continuous Rece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762120" y="1828800"/>
            <a:ext cx="47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QSeries Continuous Rece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010280" y="2590920"/>
            <a:ext cx="1600200" cy="1177920"/>
          </a:xfrm>
          <a:prstGeom prst="rect">
            <a:avLst/>
          </a:prstGeom>
          <a:solidFill>
            <a:srgbClr val="ff99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7010280" y="4114800"/>
            <a:ext cx="1600200" cy="1219320"/>
          </a:xfrm>
          <a:prstGeom prst="rect">
            <a:avLst/>
          </a:prstGeom>
          <a:solidFill>
            <a:srgbClr val="ff99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609480" y="4952880"/>
            <a:ext cx="2210040" cy="125424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3962520" y="2438280"/>
            <a:ext cx="2590560" cy="1600200"/>
          </a:xfrm>
          <a:prstGeom prst="rect">
            <a:avLst/>
          </a:prstGeom>
          <a:solidFill>
            <a:srgbClr val="33cc33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219320" y="2819520"/>
            <a:ext cx="2361960" cy="1447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7164000" y="2666880"/>
            <a:ext cx="12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Q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Q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7239600" y="4267080"/>
            <a:ext cx="11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1334520" y="3048120"/>
            <a:ext cx="216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Q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SI.EDI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763560" y="5105520"/>
            <a:ext cx="18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QS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SI.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838080" y="35053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815040" y="3200400"/>
            <a:ext cx="3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371600" y="44197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229680" y="435456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RIG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4572000" y="4419720"/>
            <a:ext cx="1981080" cy="1295280"/>
          </a:xfrm>
          <a:prstGeom prst="rect">
            <a:avLst/>
          </a:prstGeom>
          <a:solidFill>
            <a:srgbClr val="ffcc99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572360" y="4419720"/>
            <a:ext cx="182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S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EDIC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R and M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e Na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2822400" y="586728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RIGDATA(‘CRPROF=CRI  MQPROF=MQI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2820240" y="563868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CKTI starts EDI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945760" y="5715000"/>
            <a:ext cx="3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4042080" y="2438280"/>
            <a:ext cx="23187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S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DEENVEL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RANSLATE W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QPNAME(MQI)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191120" y="4648320"/>
            <a:ext cx="304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 flipV="1">
            <a:off x="4191120" y="388584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191840" y="403848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DIQ starts ED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 flipH="1">
            <a:off x="6400800" y="4572000"/>
            <a:ext cx="4572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 flipH="1" flipV="1">
            <a:off x="6324480" y="2971440"/>
            <a:ext cx="53352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 flipV="1">
            <a:off x="6248520" y="5562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DI with MQ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d messag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ed processing/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stribution across operating system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s batch and CIC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91440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ML Trans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translations are done via PERFORM TRANSFORM Utility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ERFORM TRANSFORM WHERE SYNTAX(X)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FILE(XMLFILE) INTYPE(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UTFILE(ADFFILE) OUTTYPE(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CTIONARY(TESTS) DOCUMENT(POXML5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XMLVALIDATE(0) XMLEBCDIC(Y) CLEARFILE(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ML4J parser is used to parse an XML document into AMM-formatted data for the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EDIEXWRT is used to go from AMM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ML Trans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Four CICS Transactions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7  -  Starts Java XML parser tasks (EDIJ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8  -  Stops Java XML parser tasks (EDIJ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9  -  Monitors Java XML parser tasks (EDIJ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to make sure the XML parser tasks are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arts them if they end unexpecte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J  -  XML parser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the actual XML pars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ED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is Electronic Data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-based way to exchange data within a community of tra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Standards are X12, EDI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examples: UCS, ODETTE, TRADAC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partner communities determine which standard to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by standards groups such as DISA and UN/CE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oth syntax and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ML Trans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ropertie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sers to customize some XML parser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name: EDIParser.properties in home direc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XML parsers to starts (EDIJ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tracing and logging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ML Trans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ranslating XM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lator (the EDIM task) writes the XML data to a TSQ, and writes a control record to TDQ ED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trol record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REQID so EDIJ can reawaken E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the TSQ containing the XML data to be par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the TSQ where the AMM-formatted data is to b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M awakens an EDIJ parser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WAITs for the EDIJ to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ML Trans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Translating XML data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ML parser task (the EDIJ task) reads the control record off the EDIJ TDQ, and then reads the XML data from the input T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J then parses the data using the XML4J parser, and writes the AMM-formatted data to the output TS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J then reawakens the waiting EDIM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self enters a WAI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DIM task (the translator) then proceeds with the XML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ML Trans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9" name=""/>
          <p:cNvGraphicFramePr/>
          <p:nvPr/>
        </p:nvGraphicFramePr>
        <p:xfrm>
          <a:off x="6400800" y="4276800"/>
          <a:ext cx="16556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276800"/>
                    <a:ext cx="1655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1" name=""/>
          <p:cNvGraphicFramePr/>
          <p:nvPr/>
        </p:nvGraphicFramePr>
        <p:xfrm>
          <a:off x="6400800" y="3048120"/>
          <a:ext cx="165564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048120"/>
                    <a:ext cx="1655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5" name=""/>
          <p:cNvGraphicFramePr/>
          <p:nvPr/>
        </p:nvGraphicFramePr>
        <p:xfrm>
          <a:off x="6400800" y="1828800"/>
          <a:ext cx="165564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828800"/>
                    <a:ext cx="1655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7" name=""/>
          <p:cNvGraphicFramePr/>
          <p:nvPr/>
        </p:nvGraphicFramePr>
        <p:xfrm>
          <a:off x="1295280" y="1752480"/>
          <a:ext cx="1643040" cy="82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1752480"/>
                    <a:ext cx="164304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9" name=""/>
          <p:cNvGraphicFramePr/>
          <p:nvPr/>
        </p:nvGraphicFramePr>
        <p:xfrm>
          <a:off x="1260360" y="3368520"/>
          <a:ext cx="1395360" cy="23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0360" y="3368520"/>
                    <a:ext cx="13953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1" name=""/>
          <p:cNvGraphicFramePr/>
          <p:nvPr/>
        </p:nvGraphicFramePr>
        <p:xfrm>
          <a:off x="3429000" y="2286000"/>
          <a:ext cx="960480" cy="118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2286000"/>
                    <a:ext cx="9604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3" name=""/>
          <p:cNvGraphicFramePr/>
          <p:nvPr/>
        </p:nvGraphicFramePr>
        <p:xfrm>
          <a:off x="3498840" y="3722760"/>
          <a:ext cx="1338120" cy="240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98840" y="3722760"/>
                    <a:ext cx="13381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5" name=""/>
          <p:cNvSpPr/>
          <p:nvPr/>
        </p:nvSpPr>
        <p:spPr>
          <a:xfrm>
            <a:off x="1905120" y="27432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2057400" y="27432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525680" y="256536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3048120" y="1981080"/>
            <a:ext cx="32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3125880" y="16765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4495680" y="2286000"/>
            <a:ext cx="18288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2743200" y="2438280"/>
            <a:ext cx="3581280" cy="1828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57168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4952880" y="2666880"/>
            <a:ext cx="1371600" cy="2057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5411880" y="33526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 flipH="1">
            <a:off x="3047760" y="2133720"/>
            <a:ext cx="32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4802400" y="21016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 flipH="1" flipV="1">
            <a:off x="2819160" y="2666520"/>
            <a:ext cx="60948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49920" y="448164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lementation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s /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hreading / Con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/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point / Unit-of-wor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interface design with W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interface with W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ry Kandel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rkandel@us.ibm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nn Clark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md19@us.ibm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ibm.com/websphere/data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WDI/B2B Customer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14-16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pa Bay area, TB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WDI Related S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5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ebSphere Data Interchange Technical Overview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n  1:30, Wed  9: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6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ebSphere Data Interchange Technical Trends and Directions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n  3: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86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ues  4: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8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ing EDI and XML in WebSphere Data Interchange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ues  4: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OF – WebSphere Data Interchange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ues  6:00 – originally on W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17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INT Solutions with WDI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d  8: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85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ebSphere Data Interchange and WMQ, Integration and Configuration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d  11: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for attending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ucture of EDI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by delim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gment, data element has a specific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inclu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sit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roup of related data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ample seg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B+UNOC:3+FFTESTX:ZZ+EDIFACTRCVR:ZZ+030314:1708+000000056+++++1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mposite data element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    simple data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5029200"/>
            <a:ext cx="16002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5000" y="50292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8098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17220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ucture of EDI data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combined to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business documents destined for a particular trading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related documents within an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I standards make this optional or do not support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business document, such as a purchase order or 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I standards call th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48:21Z</dcterms:created>
  <dc:creator>Larry Kandel</dc:creator>
  <dc:description/>
  <dc:language>en-US</dc:language>
  <cp:lastModifiedBy>Larry Kandel</cp:lastModifiedBy>
  <dcterms:modified xsi:type="dcterms:W3CDTF">2004-06-11T01:18:13Z</dcterms:modified>
  <cp:revision>538</cp:revision>
  <dc:subject/>
  <dc:title>PowerPoint Presentation</dc:title>
</cp:coreProperties>
</file>